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8360" y="1294920"/>
            <a:ext cx="803088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7668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680320" y="6613560"/>
            <a:ext cx="46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78C4-3A16-48EF-91CD-CE4A2809E3B2}" type="slidenum">
              <a:rPr b="1" lang="en-US" sz="10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13560"/>
            <a:ext cx="374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© DATOS Computer AG – </a:t>
            </a:r>
            <a:r>
              <a:rPr b="1" lang="en-US" sz="1000" spc="-1" strike="noStrike" u="sng">
                <a:solidFill>
                  <a:srgbClr val="b2b2b2"/>
                </a:solidFill>
                <a:uFillTx/>
                <a:latin typeface="Arial"/>
              </a:rPr>
              <a:t>www.wintool.com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50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43040" y="181080"/>
            <a:ext cx="401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e Framework for higher Efficiency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049480" y="2089080"/>
            <a:ext cx="6303960" cy="4292280"/>
            <a:chOff x="2049480" y="2089080"/>
            <a:chExt cx="6303960" cy="429228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056680" y="5044680"/>
              <a:ext cx="132768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713760" y="5044680"/>
              <a:ext cx="132732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5358600" y="5048280"/>
              <a:ext cx="1333080" cy="13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7023240" y="5048280"/>
              <a:ext cx="1330200" cy="13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3721320" y="2089080"/>
              <a:ext cx="1328760" cy="132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6"/>
            <a:stretch/>
          </p:blipFill>
          <p:spPr>
            <a:xfrm>
              <a:off x="7019640" y="2100240"/>
              <a:ext cx="133164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>
              <a:off x="205488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8"/>
            <a:stretch/>
          </p:blipFill>
          <p:spPr>
            <a:xfrm>
              <a:off x="536724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72312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Tool Catalogs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1568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Documents + Planning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156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ssembly + Logistic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860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torage System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0584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Job Lists + Presett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94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etup + Machin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45600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2116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0988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78600" y="3465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3424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68691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19065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355752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13160" y="4797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655640" y="3716280"/>
            <a:ext cx="6713640" cy="1044720"/>
            <a:chOff x="1655640" y="3716280"/>
            <a:chExt cx="6713640" cy="1044720"/>
          </a:xfrm>
        </p:grpSpPr>
        <p:sp>
          <p:nvSpPr>
            <p:cNvPr id="68" name=""/>
            <p:cNvSpPr/>
            <p:nvPr/>
          </p:nvSpPr>
          <p:spPr>
            <a:xfrm>
              <a:off x="1662120" y="3882960"/>
              <a:ext cx="398520" cy="66996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05040" y="3716280"/>
              <a:ext cx="6553080" cy="102384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fffff"/>
                  </a:solidFill>
                  <a:latin typeface="Arial Narrow"/>
                </a:rPr>
                <a:t>Win</a:t>
              </a:r>
              <a:r>
                <a:rPr b="1" i="1" lang="en-US" sz="5400" spc="-1" strike="noStrike">
                  <a:solidFill>
                    <a:srgbClr val="efbf30"/>
                  </a:solidFill>
                  <a:latin typeface="Arial Narrow"/>
                </a:rPr>
                <a:t>Tool</a:t>
              </a:r>
              <a:endParaRPr b="0" lang="en-US" sz="5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655640" y="3726000"/>
              <a:ext cx="418320" cy="42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1655640" y="4345920"/>
              <a:ext cx="402480" cy="41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55640" y="3932280"/>
              <a:ext cx="0" cy="6382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41400" y="4761000"/>
              <a:ext cx="652464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62280" y="3726000"/>
              <a:ext cx="650700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62400" y="4141800"/>
              <a:ext cx="40816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Microsoft YaHei"/>
                </a:rPr>
                <a:t>Single Source Tool Management</a:t>
              </a:r>
              <a:r>
                <a:rPr b="1" lang="de-CH" sz="2400" spc="-1" strike="noStrike">
                  <a:solidFill>
                    <a:srgbClr val="006699"/>
                  </a:solidFill>
                  <a:latin typeface="Arial"/>
                  <a:ea typeface="Microsoft YaHei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619280" y="1952640"/>
            <a:ext cx="6948360" cy="4537080"/>
            <a:chOff x="1619280" y="1952640"/>
            <a:chExt cx="6948360" cy="4537080"/>
          </a:xfrm>
        </p:grpSpPr>
        <p:sp>
          <p:nvSpPr>
            <p:cNvPr id="77" name=""/>
            <p:cNvSpPr/>
            <p:nvPr/>
          </p:nvSpPr>
          <p:spPr>
            <a:xfrm>
              <a:off x="1619280" y="5013360"/>
              <a:ext cx="6948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0360" y="1952640"/>
              <a:ext cx="1584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43280" y="1952640"/>
              <a:ext cx="324144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64680" cy="4732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95240" y="1828800"/>
            <a:ext cx="7559640" cy="4734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655720" y="2563920"/>
            <a:ext cx="2346480" cy="433440"/>
          </a:xfrm>
          <a:prstGeom prst="wedgeRoundRectCallout">
            <a:avLst>
              <a:gd name="adj1" fmla="val -47699"/>
              <a:gd name="adj2" fmla="val -140476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Run Simulation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95240" y="1828800"/>
            <a:ext cx="7559640" cy="4734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803160" y="1836720"/>
            <a:ext cx="7564680" cy="4727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771640" y="4113360"/>
            <a:ext cx="2532240" cy="1741320"/>
          </a:xfrm>
          <a:prstGeom prst="rect">
            <a:avLst/>
          </a:prstGeom>
          <a:ln w="9360">
            <a:solidFill>
              <a:srgbClr val="5f5f5f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198" name=""/>
          <p:cNvSpPr/>
          <p:nvPr/>
        </p:nvSpPr>
        <p:spPr>
          <a:xfrm>
            <a:off x="3025800" y="2568600"/>
            <a:ext cx="2346480" cy="662040"/>
          </a:xfrm>
          <a:prstGeom prst="wedgeRoundRectCallout">
            <a:avLst>
              <a:gd name="adj1" fmla="val 62449"/>
              <a:gd name="adj2" fmla="val 8597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rue holder geometry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98840" y="5311800"/>
            <a:ext cx="2346480" cy="662040"/>
          </a:xfrm>
          <a:prstGeom prst="wedgeRoundRectCallout">
            <a:avLst>
              <a:gd name="adj1" fmla="val -58458"/>
              <a:gd name="adj2" fmla="val -12506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rue collision detection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59640" cy="4726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771640" y="4113360"/>
            <a:ext cx="2532240" cy="1741320"/>
          </a:xfrm>
          <a:prstGeom prst="rect">
            <a:avLst/>
          </a:prstGeom>
          <a:ln w="9360">
            <a:solidFill>
              <a:srgbClr val="5f5f5f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95240" y="1836720"/>
            <a:ext cx="7558200" cy="4724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9880" y="2392200"/>
            <a:ext cx="1755720" cy="95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19360" y="3838680"/>
            <a:ext cx="2346480" cy="433440"/>
          </a:xfrm>
          <a:prstGeom prst="wedgeRoundRectCallout">
            <a:avLst>
              <a:gd name="adj1" fmla="val -51148"/>
              <a:gd name="adj2" fmla="val -16501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ools used in Project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92760" y="1984320"/>
            <a:ext cx="441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51120" y="2987640"/>
            <a:ext cx="2346480" cy="662040"/>
          </a:xfrm>
          <a:prstGeom prst="wedgeRoundRectCallout">
            <a:avLst>
              <a:gd name="adj1" fmla="val 48712"/>
              <a:gd name="adj2" fmla="val -15863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Save List of Tools used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56760" cy="4724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9880" y="2392200"/>
            <a:ext cx="1755720" cy="95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059280" y="3321000"/>
            <a:ext cx="4510080" cy="23241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544920" y="5403960"/>
            <a:ext cx="2346120" cy="662040"/>
          </a:xfrm>
          <a:prstGeom prst="wedgeRoundRectCallout">
            <a:avLst>
              <a:gd name="adj1" fmla="val 16509"/>
              <a:gd name="adj2" fmla="val -13776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NC-Program Header will be transferred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56760" cy="4724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9880" y="2392200"/>
            <a:ext cx="1755720" cy="95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059280" y="3321000"/>
            <a:ext cx="4510080" cy="2324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809640" y="2085840"/>
            <a:ext cx="7489800" cy="4221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3205080" y="3139920"/>
            <a:ext cx="2741760" cy="22161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57160" y="2679840"/>
            <a:ext cx="576360" cy="191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3386160" y="3659040"/>
            <a:ext cx="2371680" cy="1285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5240" y="4711680"/>
            <a:ext cx="576360" cy="217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3184560" cy="4506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934920" y="1916280"/>
            <a:ext cx="3178440" cy="44956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58880" y="137304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2049480" y="2089080"/>
            <a:ext cx="6303960" cy="4292280"/>
            <a:chOff x="2049480" y="2089080"/>
            <a:chExt cx="6303960" cy="429228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2056680" y="5044680"/>
              <a:ext cx="132768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713760" y="5044680"/>
              <a:ext cx="132732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5358600" y="5048280"/>
              <a:ext cx="1333080" cy="13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7023240" y="5048280"/>
              <a:ext cx="1330200" cy="13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5"/>
            <a:stretch/>
          </p:blipFill>
          <p:spPr>
            <a:xfrm>
              <a:off x="3721320" y="2089080"/>
              <a:ext cx="1328760" cy="132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6"/>
            <a:stretch/>
          </p:blipFill>
          <p:spPr>
            <a:xfrm>
              <a:off x="7019640" y="2100240"/>
              <a:ext cx="133164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7"/>
            <a:stretch/>
          </p:blipFill>
          <p:spPr>
            <a:xfrm>
              <a:off x="205488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8"/>
            <a:stretch/>
          </p:blipFill>
          <p:spPr>
            <a:xfrm>
              <a:off x="536724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72312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Tool Catalogs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1568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Documents + Planning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56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ssembly + Logistic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5860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torage System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0584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Job Lists + Presett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494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etup + Machin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45600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2116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0988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78600" y="3465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3424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0800000">
            <a:off x="68691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19065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0800000">
            <a:off x="355752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0800000">
            <a:off x="5213160" y="4797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655640" y="3716280"/>
            <a:ext cx="6713640" cy="1044720"/>
            <a:chOff x="1655640" y="3716280"/>
            <a:chExt cx="6713640" cy="1044720"/>
          </a:xfrm>
        </p:grpSpPr>
        <p:sp>
          <p:nvSpPr>
            <p:cNvPr id="251" name=""/>
            <p:cNvSpPr/>
            <p:nvPr/>
          </p:nvSpPr>
          <p:spPr>
            <a:xfrm>
              <a:off x="1662120" y="3882960"/>
              <a:ext cx="398520" cy="66996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05040" y="3716280"/>
              <a:ext cx="6553080" cy="102384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fffff"/>
                  </a:solidFill>
                  <a:latin typeface="Arial Narrow"/>
                </a:rPr>
                <a:t>Win</a:t>
              </a:r>
              <a:r>
                <a:rPr b="1" i="1" lang="en-US" sz="5400" spc="-1" strike="noStrike">
                  <a:solidFill>
                    <a:srgbClr val="efbf30"/>
                  </a:solidFill>
                  <a:latin typeface="Arial Narrow"/>
                </a:rPr>
                <a:t>Tool</a:t>
              </a:r>
              <a:endParaRPr b="0" lang="en-US" sz="5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1655640" y="3726000"/>
              <a:ext cx="418320" cy="42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1655640" y="4345920"/>
              <a:ext cx="402480" cy="41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55640" y="3932280"/>
              <a:ext cx="0" cy="6382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41400" y="4761000"/>
              <a:ext cx="652464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62280" y="3726000"/>
              <a:ext cx="650700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62400" y="4141800"/>
              <a:ext cx="40816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Microsoft YaHei"/>
                </a:rPr>
                <a:t>Single Source Tool Management</a:t>
              </a:r>
              <a:r>
                <a:rPr b="1" lang="de-CH" sz="2400" spc="-1" strike="noStrike">
                  <a:solidFill>
                    <a:srgbClr val="006699"/>
                  </a:solidFill>
                  <a:latin typeface="Arial"/>
                  <a:ea typeface="Microsoft YaHei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619280" y="1952640"/>
            <a:ext cx="6948360" cy="4537080"/>
            <a:chOff x="1619280" y="1952640"/>
            <a:chExt cx="6948360" cy="4537080"/>
          </a:xfrm>
        </p:grpSpPr>
        <p:sp>
          <p:nvSpPr>
            <p:cNvPr id="260" name=""/>
            <p:cNvSpPr/>
            <p:nvPr/>
          </p:nvSpPr>
          <p:spPr>
            <a:xfrm>
              <a:off x="1619280" y="5013360"/>
              <a:ext cx="6948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40360" y="1952640"/>
              <a:ext cx="1584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43280" y="1952640"/>
              <a:ext cx="324144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843360" y="2173320"/>
            <a:ext cx="1814040" cy="917280"/>
            <a:chOff x="3843360" y="2173320"/>
            <a:chExt cx="1814040" cy="917280"/>
          </a:xfrm>
        </p:grpSpPr>
        <p:sp>
          <p:nvSpPr>
            <p:cNvPr id="81" name=""/>
            <p:cNvSpPr/>
            <p:nvPr/>
          </p:nvSpPr>
          <p:spPr>
            <a:xfrm>
              <a:off x="3843360" y="2173320"/>
              <a:ext cx="1814040" cy="917280"/>
            </a:xfrm>
            <a:prstGeom prst="can">
              <a:avLst>
                <a:gd name="adj" fmla="val 18916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4032720" y="2430720"/>
              <a:ext cx="1486800" cy="51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971640" y="3780000"/>
            <a:ext cx="2411280" cy="2431440"/>
            <a:chOff x="971640" y="3780000"/>
            <a:chExt cx="2411280" cy="2431440"/>
          </a:xfrm>
        </p:grpSpPr>
        <p:sp>
          <p:nvSpPr>
            <p:cNvPr id="84" name=""/>
            <p:cNvSpPr/>
            <p:nvPr/>
          </p:nvSpPr>
          <p:spPr>
            <a:xfrm>
              <a:off x="1103040" y="5770440"/>
              <a:ext cx="218592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onent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34920" y="3887640"/>
              <a:ext cx="609480" cy="387000"/>
            </a:xfrm>
            <a:prstGeom prst="wedgeRectCallout">
              <a:avLst>
                <a:gd name="adj1" fmla="val 335939"/>
                <a:gd name="adj2" fmla="val -274180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971640" y="3780000"/>
              <a:ext cx="2411280" cy="186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"/>
          <p:cNvGrpSpPr/>
          <p:nvPr/>
        </p:nvGrpSpPr>
        <p:grpSpPr>
          <a:xfrm>
            <a:off x="3456000" y="3795840"/>
            <a:ext cx="2844720" cy="2431440"/>
            <a:chOff x="3456000" y="3795840"/>
            <a:chExt cx="2844720" cy="2431440"/>
          </a:xfrm>
        </p:grpSpPr>
        <p:sp>
          <p:nvSpPr>
            <p:cNvPr id="88" name=""/>
            <p:cNvSpPr/>
            <p:nvPr/>
          </p:nvSpPr>
          <p:spPr>
            <a:xfrm>
              <a:off x="3763800" y="5786280"/>
              <a:ext cx="223668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ssembly Data 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3887640"/>
              <a:ext cx="609480" cy="387000"/>
            </a:xfrm>
            <a:prstGeom prst="wedgeRectCallout">
              <a:avLst>
                <a:gd name="adj1" fmla="val -4166"/>
                <a:gd name="adj2" fmla="val -28483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3456000" y="3795840"/>
              <a:ext cx="2844720" cy="185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6372360" y="2519280"/>
            <a:ext cx="2252160" cy="3693960"/>
            <a:chOff x="6372360" y="2519280"/>
            <a:chExt cx="2252160" cy="3693960"/>
          </a:xfrm>
        </p:grpSpPr>
        <p:sp>
          <p:nvSpPr>
            <p:cNvPr id="92" name=""/>
            <p:cNvSpPr/>
            <p:nvPr/>
          </p:nvSpPr>
          <p:spPr>
            <a:xfrm>
              <a:off x="6387840" y="577188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ool List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72360" y="3779640"/>
              <a:ext cx="609480" cy="387360"/>
            </a:xfrm>
            <a:prstGeom prst="wedgeRectCallout">
              <a:avLst>
                <a:gd name="adj1" fmla="val -198958"/>
                <a:gd name="adj2" fmla="val -24958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6372360" y="2519280"/>
              <a:ext cx="2214360" cy="31320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95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WinTool</a:t>
            </a: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principal</a:t>
            </a: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 data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data f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507000" y="3465360"/>
            <a:ext cx="1814400" cy="917280"/>
            <a:chOff x="6507000" y="3465360"/>
            <a:chExt cx="1814400" cy="917280"/>
          </a:xfrm>
        </p:grpSpPr>
        <p:sp>
          <p:nvSpPr>
            <p:cNvPr id="98" name=""/>
            <p:cNvSpPr/>
            <p:nvPr/>
          </p:nvSpPr>
          <p:spPr>
            <a:xfrm>
              <a:off x="6507000" y="3465360"/>
              <a:ext cx="1814400" cy="917280"/>
            </a:xfrm>
            <a:prstGeom prst="can">
              <a:avLst>
                <a:gd name="adj" fmla="val 18916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6696360" y="3722760"/>
              <a:ext cx="1487160" cy="51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2592360" y="3978360"/>
            <a:ext cx="3938400" cy="441360"/>
            <a:chOff x="2592360" y="3978360"/>
            <a:chExt cx="3938400" cy="441360"/>
          </a:xfrm>
        </p:grpSpPr>
        <p:sp>
          <p:nvSpPr>
            <p:cNvPr id="101" name=""/>
            <p:cNvSpPr/>
            <p:nvPr/>
          </p:nvSpPr>
          <p:spPr>
            <a:xfrm flipH="1">
              <a:off x="2592360" y="4183200"/>
              <a:ext cx="393840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85880" y="3978360"/>
              <a:ext cx="223704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ool List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579760" y="2738520"/>
            <a:ext cx="5976720" cy="1164960"/>
            <a:chOff x="2579760" y="2738520"/>
            <a:chExt cx="5976720" cy="1164960"/>
          </a:xfrm>
        </p:grpSpPr>
        <p:sp>
          <p:nvSpPr>
            <p:cNvPr id="104" name=""/>
            <p:cNvSpPr/>
            <p:nvPr/>
          </p:nvSpPr>
          <p:spPr>
            <a:xfrm flipH="1">
              <a:off x="2579760" y="3719520"/>
              <a:ext cx="391464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79760" y="3462480"/>
              <a:ext cx="223380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ssembly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19800" y="273852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onent Data 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954760" y="2973240"/>
              <a:ext cx="0" cy="73368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2160" y="2992320"/>
              <a:ext cx="37620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384720" y="3984480"/>
            <a:ext cx="2425680" cy="1511280"/>
            <a:chOff x="3384720" y="3984480"/>
            <a:chExt cx="2425680" cy="1511280"/>
          </a:xfrm>
        </p:grpSpPr>
        <p:sp>
          <p:nvSpPr>
            <p:cNvPr id="110" name=""/>
            <p:cNvSpPr/>
            <p:nvPr/>
          </p:nvSpPr>
          <p:spPr>
            <a:xfrm>
              <a:off x="3384720" y="4479840"/>
              <a:ext cx="24256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NC-Program Info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Used Tools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T-Numbers, D/H-Memory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73280" y="3984480"/>
              <a:ext cx="2235240" cy="1511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365640" y="2365200"/>
            <a:ext cx="2425680" cy="1536840"/>
            <a:chOff x="3365640" y="2365200"/>
            <a:chExt cx="2425680" cy="1536840"/>
          </a:xfrm>
        </p:grpSpPr>
        <p:sp>
          <p:nvSpPr>
            <p:cNvPr id="113" name=""/>
            <p:cNvSpPr/>
            <p:nvPr/>
          </p:nvSpPr>
          <p:spPr>
            <a:xfrm>
              <a:off x="3365640" y="2448000"/>
              <a:ext cx="24256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Geometry Parameter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Cutting Values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000099"/>
                  </a:solidFill>
                  <a:latin typeface="Arial"/>
                </a:rPr>
                <a:t>3D Tools (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created</a:t>
              </a:r>
              <a:r>
                <a:rPr b="1" lang="de-CH" sz="1400" spc="-1" strike="noStrike">
                  <a:solidFill>
                    <a:srgbClr val="000099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73280" y="2365200"/>
              <a:ext cx="2235240" cy="153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92720" y="4159080"/>
            <a:ext cx="3462480" cy="2090880"/>
            <a:chOff x="5292720" y="4159080"/>
            <a:chExt cx="3462480" cy="2090880"/>
          </a:xfrm>
        </p:grpSpPr>
        <p:grpSp>
          <p:nvGrpSpPr>
            <p:cNvPr id="116" name=""/>
            <p:cNvGrpSpPr/>
            <p:nvPr/>
          </p:nvGrpSpPr>
          <p:grpSpPr>
            <a:xfrm>
              <a:off x="7632720" y="4159080"/>
              <a:ext cx="1122480" cy="2090880"/>
              <a:chOff x="7632720" y="4159080"/>
              <a:chExt cx="1122480" cy="2090880"/>
            </a:xfrm>
          </p:grpSpPr>
          <p:pic>
            <p:nvPicPr>
              <p:cNvPr id="1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720" y="4662360"/>
                <a:ext cx="1122480" cy="158760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18" name=""/>
              <p:cNvGrpSpPr/>
              <p:nvPr/>
            </p:nvGrpSpPr>
            <p:grpSpPr>
              <a:xfrm>
                <a:off x="8316720" y="4159080"/>
                <a:ext cx="277560" cy="503280"/>
                <a:chOff x="8316720" y="4159080"/>
                <a:chExt cx="277560" cy="503280"/>
              </a:xfrm>
            </p:grpSpPr>
            <p:sp>
              <p:nvSpPr>
                <p:cNvPr id="119" name=""/>
                <p:cNvSpPr/>
                <p:nvPr/>
              </p:nvSpPr>
              <p:spPr>
                <a:xfrm flipV="1">
                  <a:off x="8585280" y="4159080"/>
                  <a:ext cx="0" cy="503280"/>
                </a:xfrm>
                <a:prstGeom prst="line">
                  <a:avLst/>
                </a:prstGeom>
                <a:ln w="38160">
                  <a:solidFill>
                    <a:srgbClr val="00ff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8316720" y="4173840"/>
                  <a:ext cx="277560" cy="0"/>
                </a:xfrm>
                <a:prstGeom prst="line">
                  <a:avLst/>
                </a:prstGeom>
                <a:ln w="3816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" name=""/>
            <p:cNvSpPr/>
            <p:nvPr/>
          </p:nvSpPr>
          <p:spPr>
            <a:xfrm>
              <a:off x="5292720" y="577836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tup Documents 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352520" y="2459160"/>
            <a:ext cx="1257480" cy="1027080"/>
            <a:chOff x="1352520" y="2459160"/>
            <a:chExt cx="1257480" cy="1027080"/>
          </a:xfrm>
        </p:grpSpPr>
        <p:sp>
          <p:nvSpPr>
            <p:cNvPr id="123" name=""/>
            <p:cNvSpPr/>
            <p:nvPr/>
          </p:nvSpPr>
          <p:spPr>
            <a:xfrm>
              <a:off x="2013120" y="3003840"/>
              <a:ext cx="0" cy="48240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352520" y="2459160"/>
              <a:ext cx="1257480" cy="561960"/>
              <a:chOff x="1352520" y="2459160"/>
              <a:chExt cx="1257480" cy="5619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33520" y="2459160"/>
                <a:ext cx="1100160" cy="561960"/>
              </a:xfrm>
              <a:prstGeom prst="can">
                <a:avLst>
                  <a:gd name="adj" fmla="val 18916"/>
                </a:avLst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352520" y="2648160"/>
                <a:ext cx="125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CH" sz="1200" spc="-1" strike="noStrike">
                    <a:solidFill>
                      <a:srgbClr val="ffffff"/>
                    </a:solidFill>
                    <a:latin typeface="Arial"/>
                  </a:rPr>
                  <a:t>ESPRIT KB</a:t>
                </a:r>
                <a:endParaRPr b="0" lang="en-US" sz="12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1244520" y="3443400"/>
            <a:ext cx="1476000" cy="1355040"/>
            <a:chOff x="1244520" y="3443400"/>
            <a:chExt cx="1476000" cy="1355040"/>
          </a:xfrm>
        </p:grpSpPr>
        <p:grpSp>
          <p:nvGrpSpPr>
            <p:cNvPr id="128" name=""/>
            <p:cNvGrpSpPr/>
            <p:nvPr/>
          </p:nvGrpSpPr>
          <p:grpSpPr>
            <a:xfrm>
              <a:off x="1244520" y="3443400"/>
              <a:ext cx="1476000" cy="1355040"/>
              <a:chOff x="1244520" y="3443400"/>
              <a:chExt cx="1476000" cy="1355040"/>
            </a:xfrm>
          </p:grpSpPr>
          <p:sp>
            <p:nvSpPr>
              <p:cNvPr id="129" name=""/>
              <p:cNvSpPr/>
              <p:nvPr/>
            </p:nvSpPr>
            <p:spPr>
              <a:xfrm>
                <a:off x="1377360" y="3443400"/>
                <a:ext cx="1207080" cy="1008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4" y="0"/>
                    </a:lnTo>
                    <a:lnTo>
                      <a:pt x="19974" y="19972"/>
                    </a:lnTo>
                    <a:lnTo>
                      <a:pt x="0" y="199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02280" y="3575160"/>
                <a:ext cx="956880" cy="72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0" y="0"/>
                    </a:lnTo>
                    <a:lnTo>
                      <a:pt x="19969" y="0"/>
                    </a:lnTo>
                    <a:lnTo>
                      <a:pt x="19969" y="19964"/>
                    </a:lnTo>
                    <a:lnTo>
                      <a:pt x="0" y="199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3cccc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1e79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244520" y="4536360"/>
                <a:ext cx="1476000" cy="262080"/>
                <a:chOff x="1244520" y="4536360"/>
                <a:chExt cx="1476000" cy="2620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244520" y="4755960"/>
                  <a:ext cx="1476000" cy="42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310"/>
                      </a:moveTo>
                      <a:lnTo>
                        <a:pt x="19979" y="0"/>
                      </a:lnTo>
                      <a:lnTo>
                        <a:pt x="0" y="0"/>
                      </a:lnTo>
                      <a:lnTo>
                        <a:pt x="0" y="19310"/>
                      </a:lnTo>
                      <a:lnTo>
                        <a:pt x="19979" y="1931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  <a:effectLst>
                  <a:outerShdw dist="153753" dir="2700000" blurRad="0" rotWithShape="0">
                    <a:srgbClr val="848484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244520" y="4536360"/>
                  <a:ext cx="1476000" cy="2196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872"/>
                      </a:moveTo>
                      <a:lnTo>
                        <a:pt x="17273" y="0"/>
                      </a:lnTo>
                      <a:lnTo>
                        <a:pt x="2727" y="0"/>
                      </a:lnTo>
                      <a:lnTo>
                        <a:pt x="0" y="19872"/>
                      </a:lnTo>
                      <a:lnTo>
                        <a:pt x="19979" y="1987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1348200" y="4578840"/>
                  <a:ext cx="1229040" cy="134280"/>
                  <a:chOff x="1348200" y="4578840"/>
                  <a:chExt cx="1229040" cy="13428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1348200" y="4578840"/>
                    <a:ext cx="2318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1007" y="0"/>
                        </a:moveTo>
                        <a:lnTo>
                          <a:pt x="19866" y="0"/>
                        </a:lnTo>
                        <a:lnTo>
                          <a:pt x="11007" y="19780"/>
                        </a:lnTo>
                        <a:lnTo>
                          <a:pt x="0" y="19780"/>
                        </a:lnTo>
                        <a:lnTo>
                          <a:pt x="1100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548720" y="4578840"/>
                    <a:ext cx="8481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651" y="19780"/>
                        </a:moveTo>
                        <a:lnTo>
                          <a:pt x="19963" y="19780"/>
                        </a:lnTo>
                        <a:lnTo>
                          <a:pt x="18899" y="0"/>
                        </a:lnTo>
                        <a:lnTo>
                          <a:pt x="1835" y="0"/>
                        </a:lnTo>
                        <a:lnTo>
                          <a:pt x="0" y="17143"/>
                        </a:lnTo>
                        <a:lnTo>
                          <a:pt x="1835" y="17143"/>
                        </a:lnTo>
                        <a:lnTo>
                          <a:pt x="1431" y="19780"/>
                        </a:lnTo>
                        <a:lnTo>
                          <a:pt x="1651" y="197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2395440" y="4583160"/>
                    <a:ext cx="18180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672"/>
                        </a:moveTo>
                        <a:lnTo>
                          <a:pt x="11624" y="0"/>
                        </a:lnTo>
                        <a:lnTo>
                          <a:pt x="0" y="0"/>
                        </a:lnTo>
                        <a:lnTo>
                          <a:pt x="4615" y="19672"/>
                        </a:lnTo>
                        <a:lnTo>
                          <a:pt x="19829" y="196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1495440" y="3803760"/>
              <a:ext cx="952560" cy="2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"/>
          <p:cNvGrpSpPr/>
          <p:nvPr/>
        </p:nvGrpSpPr>
        <p:grpSpPr>
          <a:xfrm>
            <a:off x="847800" y="4441680"/>
            <a:ext cx="2236680" cy="1212480"/>
            <a:chOff x="847800" y="4441680"/>
            <a:chExt cx="2236680" cy="1212480"/>
          </a:xfrm>
        </p:grpSpPr>
        <p:sp>
          <p:nvSpPr>
            <p:cNvPr id="140" name=""/>
            <p:cNvSpPr/>
            <p:nvPr/>
          </p:nvSpPr>
          <p:spPr>
            <a:xfrm flipV="1">
              <a:off x="1568160" y="4441320"/>
              <a:ext cx="7614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" y="11114"/>
                  </a:moveTo>
                  <a:arcTo wR="10800" hR="10800" stAng="10700098" swAng="10899902"/>
                  <a:lnTo>
                    <a:pt x="10800" y="10800"/>
                  </a:lnTo>
                  <a:close/>
                </a:path>
                <a:path fill="none" w="21600" h="21600">
                  <a:moveTo>
                    <a:pt x="5" y="11114"/>
                  </a:moveTo>
                  <a:arcTo wR="10800" hR="10800" stAng="10700098" swAng="10899902"/>
                </a:path>
              </a:pathLst>
            </a:custGeom>
            <a:noFill/>
            <a:ln w="38160">
              <a:solidFill>
                <a:srgbClr val="00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7800" y="5213160"/>
              <a:ext cx="223668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L adjustmen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244520" y="3443400"/>
            <a:ext cx="1476000" cy="1355040"/>
            <a:chOff x="1244520" y="3443400"/>
            <a:chExt cx="1476000" cy="1355040"/>
          </a:xfrm>
        </p:grpSpPr>
        <p:grpSp>
          <p:nvGrpSpPr>
            <p:cNvPr id="143" name=""/>
            <p:cNvGrpSpPr/>
            <p:nvPr/>
          </p:nvGrpSpPr>
          <p:grpSpPr>
            <a:xfrm>
              <a:off x="1244520" y="3443400"/>
              <a:ext cx="1476000" cy="1355040"/>
              <a:chOff x="1244520" y="3443400"/>
              <a:chExt cx="1476000" cy="1355040"/>
            </a:xfrm>
          </p:grpSpPr>
          <p:sp>
            <p:nvSpPr>
              <p:cNvPr id="144" name=""/>
              <p:cNvSpPr/>
              <p:nvPr/>
            </p:nvSpPr>
            <p:spPr>
              <a:xfrm>
                <a:off x="1377360" y="3443400"/>
                <a:ext cx="1207080" cy="1008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4" y="0"/>
                    </a:lnTo>
                    <a:lnTo>
                      <a:pt x="19974" y="19972"/>
                    </a:lnTo>
                    <a:lnTo>
                      <a:pt x="0" y="199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502280" y="3575160"/>
                <a:ext cx="956880" cy="72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0" y="0"/>
                    </a:lnTo>
                    <a:lnTo>
                      <a:pt x="19969" y="0"/>
                    </a:lnTo>
                    <a:lnTo>
                      <a:pt x="19969" y="19964"/>
                    </a:lnTo>
                    <a:lnTo>
                      <a:pt x="0" y="199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3cccc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1e79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1244520" y="4536360"/>
                <a:ext cx="1476000" cy="262080"/>
                <a:chOff x="1244520" y="4536360"/>
                <a:chExt cx="1476000" cy="26208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244520" y="4755960"/>
                  <a:ext cx="1476000" cy="42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310"/>
                      </a:moveTo>
                      <a:lnTo>
                        <a:pt x="19979" y="0"/>
                      </a:lnTo>
                      <a:lnTo>
                        <a:pt x="0" y="0"/>
                      </a:lnTo>
                      <a:lnTo>
                        <a:pt x="0" y="19310"/>
                      </a:lnTo>
                      <a:lnTo>
                        <a:pt x="19979" y="1931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  <a:effectLst>
                  <a:outerShdw dist="153753" dir="2700000" blurRad="0" rotWithShape="0">
                    <a:srgbClr val="848484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244520" y="4536360"/>
                  <a:ext cx="1476000" cy="2196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872"/>
                      </a:moveTo>
                      <a:lnTo>
                        <a:pt x="17273" y="0"/>
                      </a:lnTo>
                      <a:lnTo>
                        <a:pt x="2727" y="0"/>
                      </a:lnTo>
                      <a:lnTo>
                        <a:pt x="0" y="19872"/>
                      </a:lnTo>
                      <a:lnTo>
                        <a:pt x="19979" y="1987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1348200" y="4578840"/>
                  <a:ext cx="1229040" cy="134280"/>
                  <a:chOff x="1348200" y="4578840"/>
                  <a:chExt cx="1229040" cy="13428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1348200" y="4578840"/>
                    <a:ext cx="2318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1007" y="0"/>
                        </a:moveTo>
                        <a:lnTo>
                          <a:pt x="19866" y="0"/>
                        </a:lnTo>
                        <a:lnTo>
                          <a:pt x="11007" y="19780"/>
                        </a:lnTo>
                        <a:lnTo>
                          <a:pt x="0" y="19780"/>
                        </a:lnTo>
                        <a:lnTo>
                          <a:pt x="1100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548720" y="4578840"/>
                    <a:ext cx="8481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651" y="19780"/>
                        </a:moveTo>
                        <a:lnTo>
                          <a:pt x="19963" y="19780"/>
                        </a:lnTo>
                        <a:lnTo>
                          <a:pt x="18899" y="0"/>
                        </a:lnTo>
                        <a:lnTo>
                          <a:pt x="1835" y="0"/>
                        </a:lnTo>
                        <a:lnTo>
                          <a:pt x="0" y="17143"/>
                        </a:lnTo>
                        <a:lnTo>
                          <a:pt x="1835" y="17143"/>
                        </a:lnTo>
                        <a:lnTo>
                          <a:pt x="1431" y="19780"/>
                        </a:lnTo>
                        <a:lnTo>
                          <a:pt x="1651" y="197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95440" y="4583160"/>
                    <a:ext cx="18180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672"/>
                        </a:moveTo>
                        <a:lnTo>
                          <a:pt x="11624" y="0"/>
                        </a:lnTo>
                        <a:lnTo>
                          <a:pt x="0" y="0"/>
                        </a:lnTo>
                        <a:lnTo>
                          <a:pt x="4615" y="19672"/>
                        </a:lnTo>
                        <a:lnTo>
                          <a:pt x="19829" y="196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1495440" y="3803760"/>
              <a:ext cx="952560" cy="24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92000" y="1839960"/>
            <a:ext cx="7569360" cy="473076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2871720" y="1946160"/>
            <a:ext cx="3133800" cy="1687680"/>
            <a:chOff x="2871720" y="1946160"/>
            <a:chExt cx="3133800" cy="1687680"/>
          </a:xfrm>
        </p:grpSpPr>
        <p:sp>
          <p:nvSpPr>
            <p:cNvPr id="157" name=""/>
            <p:cNvSpPr/>
            <p:nvPr/>
          </p:nvSpPr>
          <p:spPr>
            <a:xfrm>
              <a:off x="5459400" y="1946160"/>
              <a:ext cx="546120" cy="355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71720" y="2948040"/>
              <a:ext cx="2759040" cy="685800"/>
            </a:xfrm>
            <a:prstGeom prst="wedgeRoundRectCallout">
              <a:avLst>
                <a:gd name="adj1" fmla="val 47180"/>
                <a:gd name="adj2" fmla="val -143287"/>
                <a:gd name="adj3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Import Tools 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from </a:t>
              </a:r>
              <a:r>
                <a:rPr b="1" i="1" lang="en-US" sz="1600" spc="-1" strike="noStrike">
                  <a:solidFill>
                    <a:srgbClr val="006699"/>
                  </a:solidFill>
                  <a:latin typeface="Arial"/>
                </a:rPr>
                <a:t>WinTool</a:t>
              </a: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 Database.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92000" y="183996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071960" y="3254400"/>
            <a:ext cx="2124000" cy="1162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598920" y="5110200"/>
            <a:ext cx="2330280" cy="422280"/>
          </a:xfrm>
          <a:prstGeom prst="wedgeRoundRectCallout">
            <a:avLst>
              <a:gd name="adj1" fmla="val -9944"/>
              <a:gd name="adj2" fmla="val -23759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Import single Tool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92000" y="183996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071960" y="3254400"/>
            <a:ext cx="2124000" cy="1162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49400" y="3603600"/>
            <a:ext cx="2349360" cy="432000"/>
          </a:xfrm>
          <a:prstGeom prst="wedgeRoundRectCallout">
            <a:avLst>
              <a:gd name="adj1" fmla="val 60541"/>
              <a:gd name="adj2" fmla="val -12352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Select a Tool Class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75240" y="2871720"/>
            <a:ext cx="2813040" cy="2314800"/>
            <a:chOff x="3675240" y="2871720"/>
            <a:chExt cx="2813040" cy="2314800"/>
          </a:xfrm>
        </p:grpSpPr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3675240" y="2871720"/>
              <a:ext cx="281304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640400" y="3166920"/>
              <a:ext cx="874440" cy="67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29240" y="3166920"/>
              <a:ext cx="914400" cy="67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676680" y="2873520"/>
            <a:ext cx="2813040" cy="2314440"/>
            <a:chOff x="3676680" y="2873520"/>
            <a:chExt cx="2813040" cy="2314440"/>
          </a:xfrm>
        </p:grpSpPr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3676680" y="2873520"/>
              <a:ext cx="2813040" cy="23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530680" y="3168720"/>
              <a:ext cx="914400" cy="67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3676680" y="2874960"/>
            <a:ext cx="2813040" cy="23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90560" y="183996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675240" y="2871720"/>
            <a:ext cx="2813040" cy="2314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3567240" y="3116160"/>
            <a:ext cx="3024000" cy="2405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82800" y="3603600"/>
            <a:ext cx="2414520" cy="432000"/>
          </a:xfrm>
          <a:prstGeom prst="wedgeRoundRectCallout">
            <a:avLst>
              <a:gd name="adj1" fmla="val 68736"/>
              <a:gd name="adj2" fmla="val 4889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Select Tool in Library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82800" y="4297320"/>
            <a:ext cx="2414520" cy="662040"/>
          </a:xfrm>
          <a:prstGeom prst="wedgeRoundRectCallout">
            <a:avLst>
              <a:gd name="adj1" fmla="val 71564"/>
              <a:gd name="adj2" fmla="val 3849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heck Geometry and Collision Points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92000" y="183672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114720" y="2592360"/>
            <a:ext cx="2152440" cy="1976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90640" y="3162240"/>
            <a:ext cx="2346120" cy="662040"/>
          </a:xfrm>
          <a:prstGeom prst="wedgeRoundRectCallout">
            <a:avLst>
              <a:gd name="adj1" fmla="val -3245"/>
              <a:gd name="adj2" fmla="val -12146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ool is available with complete data set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92000" y="1836720"/>
            <a:ext cx="7569360" cy="4730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95240" y="1836720"/>
            <a:ext cx="7562880" cy="4732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940120" y="3610080"/>
            <a:ext cx="2346120" cy="662040"/>
          </a:xfrm>
          <a:prstGeom prst="wedgeRoundRectCallout">
            <a:avLst>
              <a:gd name="adj1" fmla="val -61703"/>
              <a:gd name="adj2" fmla="val -8932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Receive best cutting conditions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06440" y="2637000"/>
            <a:ext cx="2346480" cy="433080"/>
          </a:xfrm>
          <a:prstGeom prst="wedgeRoundRectCallout">
            <a:avLst>
              <a:gd name="adj1" fmla="val -61703"/>
              <a:gd name="adj2" fmla="val -11007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alculate pat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12:11:33Z</dcterms:created>
  <dc:creator>WG</dc:creator>
  <dc:description/>
  <cp:keywords>Werkzeug Organisation in der CNC-Fertigung</cp:keywords>
  <dc:language>en-US</dc:language>
  <cp:lastModifiedBy>Walter Götschi</cp:lastModifiedBy>
  <dcterms:modified xsi:type="dcterms:W3CDTF">2012-02-22T09:23:30Z</dcterms:modified>
  <cp:revision>516</cp:revision>
  <dc:subject>Integrierter Prozess in der CNC Fertigung</dc:subject>
  <dc:title>WinTool 2012 D</dc:title>
</cp:coreProperties>
</file>