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47.png" ContentType="image/png"/>
  <Override PartName="/ppt/media/image12.png" ContentType="image/png"/>
  <Override PartName="/ppt/media/image41.png" ContentType="image/png"/>
  <Override PartName="/ppt/media/image48.jpeg" ContentType="image/jpe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157880" y="596880"/>
            <a:ext cx="2079720" cy="735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252360" y="11192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4320" y="990720"/>
            <a:ext cx="7210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95400" y="82440"/>
            <a:ext cx="1674720" cy="507960"/>
            <a:chOff x="95400" y="82440"/>
            <a:chExt cx="1674720" cy="507960"/>
          </a:xfrm>
        </p:grpSpPr>
        <p:sp>
          <p:nvSpPr>
            <p:cNvPr id="5" name=""/>
            <p:cNvSpPr/>
            <p:nvPr/>
          </p:nvSpPr>
          <p:spPr>
            <a:xfrm>
              <a:off x="345960" y="384120"/>
              <a:ext cx="1098360" cy="206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59" y="4402"/>
                  </a:moveTo>
                  <a:lnTo>
                    <a:pt x="1856" y="0"/>
                  </a:lnTo>
                  <a:lnTo>
                    <a:pt x="15027" y="875"/>
                  </a:lnTo>
                  <a:lnTo>
                    <a:pt x="19549" y="1463"/>
                  </a:lnTo>
                  <a:lnTo>
                    <a:pt x="19876" y="1900"/>
                  </a:lnTo>
                  <a:lnTo>
                    <a:pt x="19996" y="2488"/>
                  </a:lnTo>
                  <a:lnTo>
                    <a:pt x="19968" y="3363"/>
                  </a:lnTo>
                  <a:lnTo>
                    <a:pt x="19337" y="4402"/>
                  </a:lnTo>
                  <a:lnTo>
                    <a:pt x="18619" y="4539"/>
                  </a:lnTo>
                  <a:lnTo>
                    <a:pt x="18950" y="5427"/>
                  </a:lnTo>
                  <a:lnTo>
                    <a:pt x="18918" y="6302"/>
                  </a:lnTo>
                  <a:lnTo>
                    <a:pt x="18260" y="7642"/>
                  </a:lnTo>
                  <a:lnTo>
                    <a:pt x="17154" y="7929"/>
                  </a:lnTo>
                  <a:lnTo>
                    <a:pt x="11826" y="9241"/>
                  </a:lnTo>
                  <a:lnTo>
                    <a:pt x="18499" y="9692"/>
                  </a:lnTo>
                  <a:lnTo>
                    <a:pt x="18831" y="9829"/>
                  </a:lnTo>
                  <a:lnTo>
                    <a:pt x="19038" y="10130"/>
                  </a:lnTo>
                  <a:lnTo>
                    <a:pt x="19130" y="11169"/>
                  </a:lnTo>
                  <a:lnTo>
                    <a:pt x="19070" y="11757"/>
                  </a:lnTo>
                  <a:lnTo>
                    <a:pt x="18260" y="12632"/>
                  </a:lnTo>
                  <a:lnTo>
                    <a:pt x="15446" y="12768"/>
                  </a:lnTo>
                  <a:lnTo>
                    <a:pt x="17753" y="13069"/>
                  </a:lnTo>
                  <a:lnTo>
                    <a:pt x="17960" y="13520"/>
                  </a:lnTo>
                  <a:lnTo>
                    <a:pt x="17960" y="14532"/>
                  </a:lnTo>
                  <a:lnTo>
                    <a:pt x="17901" y="14833"/>
                  </a:lnTo>
                  <a:lnTo>
                    <a:pt x="17482" y="15284"/>
                  </a:lnTo>
                  <a:lnTo>
                    <a:pt x="17003" y="15571"/>
                  </a:lnTo>
                  <a:lnTo>
                    <a:pt x="15147" y="15571"/>
                  </a:lnTo>
                  <a:lnTo>
                    <a:pt x="15119" y="16596"/>
                  </a:lnTo>
                  <a:lnTo>
                    <a:pt x="14847" y="17635"/>
                  </a:lnTo>
                  <a:lnTo>
                    <a:pt x="14009" y="19535"/>
                  </a:lnTo>
                  <a:lnTo>
                    <a:pt x="13291" y="19986"/>
                  </a:lnTo>
                  <a:lnTo>
                    <a:pt x="12034" y="19822"/>
                  </a:lnTo>
                  <a:lnTo>
                    <a:pt x="10716" y="19535"/>
                  </a:lnTo>
                  <a:lnTo>
                    <a:pt x="9132" y="18947"/>
                  </a:lnTo>
                  <a:lnTo>
                    <a:pt x="8234" y="18223"/>
                  </a:lnTo>
                  <a:lnTo>
                    <a:pt x="8022" y="17772"/>
                  </a:lnTo>
                  <a:lnTo>
                    <a:pt x="8022" y="17184"/>
                  </a:lnTo>
                  <a:lnTo>
                    <a:pt x="8202" y="16008"/>
                  </a:lnTo>
                  <a:lnTo>
                    <a:pt x="8713" y="15120"/>
                  </a:lnTo>
                  <a:lnTo>
                    <a:pt x="8741" y="15120"/>
                  </a:lnTo>
                  <a:lnTo>
                    <a:pt x="8773" y="14983"/>
                  </a:lnTo>
                  <a:lnTo>
                    <a:pt x="9132" y="14532"/>
                  </a:lnTo>
                  <a:lnTo>
                    <a:pt x="9132" y="13944"/>
                  </a:lnTo>
                  <a:lnTo>
                    <a:pt x="4610" y="13520"/>
                  </a:lnTo>
                  <a:lnTo>
                    <a:pt x="1648" y="13356"/>
                  </a:lnTo>
                  <a:lnTo>
                    <a:pt x="239" y="13356"/>
                  </a:lnTo>
                  <a:lnTo>
                    <a:pt x="0" y="13069"/>
                  </a:lnTo>
                  <a:lnTo>
                    <a:pt x="0" y="12044"/>
                  </a:lnTo>
                  <a:lnTo>
                    <a:pt x="32" y="11005"/>
                  </a:lnTo>
                  <a:lnTo>
                    <a:pt x="239" y="10718"/>
                  </a:lnTo>
                  <a:lnTo>
                    <a:pt x="271" y="10718"/>
                  </a:lnTo>
                  <a:lnTo>
                    <a:pt x="1050" y="10417"/>
                  </a:lnTo>
                  <a:lnTo>
                    <a:pt x="1828" y="10417"/>
                  </a:lnTo>
                  <a:lnTo>
                    <a:pt x="1078" y="10130"/>
                  </a:lnTo>
                  <a:lnTo>
                    <a:pt x="1018" y="9241"/>
                  </a:lnTo>
                  <a:lnTo>
                    <a:pt x="1018" y="8517"/>
                  </a:lnTo>
                  <a:lnTo>
                    <a:pt x="1169" y="7779"/>
                  </a:lnTo>
                  <a:lnTo>
                    <a:pt x="4582" y="6302"/>
                  </a:lnTo>
                  <a:lnTo>
                    <a:pt x="6917" y="5714"/>
                  </a:lnTo>
                  <a:lnTo>
                    <a:pt x="9100" y="5427"/>
                  </a:lnTo>
                  <a:lnTo>
                    <a:pt x="4821" y="5126"/>
                  </a:lnTo>
                  <a:lnTo>
                    <a:pt x="2694" y="4990"/>
                  </a:lnTo>
                  <a:lnTo>
                    <a:pt x="1708" y="4839"/>
                  </a:lnTo>
                  <a:lnTo>
                    <a:pt x="958" y="4990"/>
                  </a:lnTo>
                  <a:lnTo>
                    <a:pt x="659" y="4402"/>
                  </a:lnTo>
                  <a:close/>
                </a:path>
              </a:pathLst>
            </a:custGeom>
            <a:solidFill>
              <a:srgbClr val="ffc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5400" y="8244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OS</a:t>
              </a:r>
              <a:endParaRPr b="0" lang="en-US" sz="1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7410600" y="654120"/>
            <a:ext cx="173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227720" y="652320"/>
            <a:ext cx="39960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7227720" y="1021680"/>
            <a:ext cx="386640" cy="25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7227720" y="78264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7410600" y="1279440"/>
            <a:ext cx="173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"/>
          <p:cNvSpPr/>
          <p:nvPr/>
        </p:nvSpPr>
        <p:spPr>
          <a:xfrm>
            <a:off x="76320" y="606600"/>
            <a:ext cx="16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dddddd"/>
                </a:solidFill>
                <a:latin typeface="Arial"/>
              </a:rPr>
              <a:t>Process</a:t>
            </a:r>
            <a:r>
              <a:rPr b="1" lang="en-US" sz="1000" spc="-1" strike="noStrike">
                <a:solidFill>
                  <a:srgbClr val="dddddd"/>
                </a:solidFill>
                <a:latin typeface="Arial"/>
              </a:rPr>
              <a:t> Integration</a:t>
            </a:r>
            <a:endParaRPr b="0" lang="en-US" sz="10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5214960" y="128520"/>
            <a:ext cx="3795840" cy="512640"/>
            <a:chOff x="5214960" y="128520"/>
            <a:chExt cx="3795840" cy="512640"/>
          </a:xfrm>
        </p:grpSpPr>
        <p:grpSp>
          <p:nvGrpSpPr>
            <p:cNvPr id="14" name=""/>
            <p:cNvGrpSpPr/>
            <p:nvPr/>
          </p:nvGrpSpPr>
          <p:grpSpPr>
            <a:xfrm>
              <a:off x="7651800" y="168840"/>
              <a:ext cx="338400" cy="282960"/>
              <a:chOff x="7651800" y="168840"/>
              <a:chExt cx="338400" cy="282960"/>
            </a:xfrm>
          </p:grpSpPr>
          <p:sp>
            <p:nvSpPr>
              <p:cNvPr id="15" name=""/>
              <p:cNvSpPr/>
              <p:nvPr/>
            </p:nvSpPr>
            <p:spPr>
              <a:xfrm>
                <a:off x="7651800" y="168840"/>
                <a:ext cx="337680" cy="20052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51800" y="366840"/>
                <a:ext cx="338400" cy="6408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80960" y="198360"/>
                <a:ext cx="79560" cy="10944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3480" y="198360"/>
                <a:ext cx="79920" cy="10944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870680" y="198360"/>
                <a:ext cx="79920" cy="10944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60440" y="431280"/>
                <a:ext cx="329760" cy="20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67280" y="337680"/>
                <a:ext cx="301680" cy="32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87800" y="347400"/>
                <a:ext cx="27000" cy="10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728480" y="347400"/>
                <a:ext cx="26640" cy="10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769160" y="347400"/>
                <a:ext cx="27360" cy="10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08040" y="347400"/>
                <a:ext cx="27360" cy="10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869600" y="342720"/>
                <a:ext cx="11160" cy="111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885440" y="342720"/>
                <a:ext cx="11520" cy="111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912440" y="342720"/>
                <a:ext cx="11160" cy="11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30800" y="342720"/>
                <a:ext cx="11160" cy="111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110080" y="202680"/>
              <a:ext cx="387360" cy="342360"/>
              <a:chOff x="8110080" y="202680"/>
              <a:chExt cx="387360" cy="342360"/>
            </a:xfrm>
          </p:grpSpPr>
          <p:sp>
            <p:nvSpPr>
              <p:cNvPr id="31" name=""/>
              <p:cNvSpPr/>
              <p:nvPr/>
            </p:nvSpPr>
            <p:spPr>
              <a:xfrm>
                <a:off x="8151480" y="311400"/>
                <a:ext cx="30600" cy="14040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10960" y="202680"/>
                <a:ext cx="28080" cy="137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177760" y="416520"/>
                <a:ext cx="306360" cy="1072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162640" y="364680"/>
                <a:ext cx="334800" cy="51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117640" y="236160"/>
                <a:ext cx="97560" cy="792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01240" y="340200"/>
                <a:ext cx="46080" cy="342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10320" y="255600"/>
                <a:ext cx="60480" cy="1090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191080" y="522000"/>
                <a:ext cx="284400" cy="23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9880" y="246600"/>
                <a:ext cx="74160" cy="5724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1d8ff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981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110080" y="314280"/>
                <a:ext cx="121680" cy="29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16560" y="318960"/>
                <a:ext cx="109080" cy="16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327520" y="295920"/>
                <a:ext cx="35640" cy="10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361000" y="288720"/>
                <a:ext cx="48600" cy="208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03040" y="265680"/>
                <a:ext cx="44640" cy="450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306280" y="268920"/>
                <a:ext cx="38160" cy="38160"/>
              </a:xfrm>
              <a:prstGeom prst="ellipse">
                <a:avLst/>
              </a:prstGeom>
              <a:gradFill rotWithShape="0">
                <a:gsLst>
                  <a:gs pos="0">
                    <a:srgbClr val="b1d8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6991920" y="275400"/>
              <a:ext cx="168480" cy="168120"/>
              <a:chOff x="6991920" y="275400"/>
              <a:chExt cx="168480" cy="168120"/>
            </a:xfrm>
          </p:grpSpPr>
          <p:sp>
            <p:nvSpPr>
              <p:cNvPr id="47" name=""/>
              <p:cNvSpPr/>
              <p:nvPr/>
            </p:nvSpPr>
            <p:spPr>
              <a:xfrm>
                <a:off x="7007040" y="275400"/>
                <a:ext cx="137880" cy="12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021080" y="291600"/>
                <a:ext cx="109080" cy="89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6991920" y="411120"/>
                <a:ext cx="168480" cy="32400"/>
                <a:chOff x="6991920" y="411120"/>
                <a:chExt cx="168480" cy="3240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6991920" y="438480"/>
                  <a:ext cx="168480" cy="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6991920" y="411120"/>
                  <a:ext cx="168480" cy="27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52" name=""/>
                <p:cNvGrpSpPr/>
                <p:nvPr/>
              </p:nvGrpSpPr>
              <p:grpSpPr>
                <a:xfrm>
                  <a:off x="7003440" y="416160"/>
                  <a:ext cx="140400" cy="16560"/>
                  <a:chOff x="7003440" y="416160"/>
                  <a:chExt cx="140400" cy="1656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003440" y="416160"/>
                    <a:ext cx="262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7026120" y="416160"/>
                    <a:ext cx="96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7123320" y="416520"/>
                    <a:ext cx="20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grpSp>
          <p:nvGrpSpPr>
            <p:cNvPr id="56" name=""/>
            <p:cNvGrpSpPr/>
            <p:nvPr/>
          </p:nvGrpSpPr>
          <p:grpSpPr>
            <a:xfrm>
              <a:off x="6305760" y="146520"/>
              <a:ext cx="657360" cy="393480"/>
              <a:chOff x="6305760" y="146520"/>
              <a:chExt cx="657360" cy="393480"/>
            </a:xfrm>
          </p:grpSpPr>
          <p:sp>
            <p:nvSpPr>
              <p:cNvPr id="57" name=""/>
              <p:cNvSpPr/>
              <p:nvPr/>
            </p:nvSpPr>
            <p:spPr>
              <a:xfrm>
                <a:off x="6516000" y="146520"/>
                <a:ext cx="446400" cy="3034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654240" y="146880"/>
                <a:ext cx="196560" cy="30420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30760" y="174960"/>
                <a:ext cx="114480" cy="13536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67000" y="174600"/>
                <a:ext cx="83520" cy="727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18360" y="504000"/>
                <a:ext cx="633240" cy="36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379200" y="319320"/>
                <a:ext cx="75240" cy="105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18360" y="424800"/>
                <a:ext cx="197280" cy="26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6666120" y="189360"/>
                <a:ext cx="80280" cy="122040"/>
                <a:chOff x="6666120" y="189360"/>
                <a:chExt cx="80280" cy="1220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666120" y="189360"/>
                  <a:ext cx="80280" cy="122040"/>
                </a:xfrm>
                <a:prstGeom prst="rect">
                  <a:avLst/>
                </a:prstGeom>
                <a:solidFill>
                  <a:srgbClr val="037dd9"/>
                </a:solidFill>
                <a:ln w="0">
                  <a:noFill/>
                </a:ln>
                <a:effectLst>
                  <a:outerShdw dist="17819" dir="2700000" blurRad="0" rotWithShape="0">
                    <a:srgbClr val="014a8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678360" y="200520"/>
                  <a:ext cx="56160" cy="4320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  <a:effectLst>
                  <a:outerShdw dist="153753" dir="2700000" blurRad="0" rotWithShape="0">
                    <a:srgbClr val="5b79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677640" y="248400"/>
                  <a:ext cx="56160" cy="399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1e1e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6454800" y="342000"/>
                <a:ext cx="14040" cy="565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  <a:effectLst>
                <a:outerShdw dist="17819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64800" y="342000"/>
                <a:ext cx="14040" cy="565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  <a:effectLst>
                <a:outerShdw dist="17819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95760" y="342000"/>
                <a:ext cx="43560" cy="565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  <a:effectLst>
                <a:outerShdw dist="17819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05760" y="451440"/>
                <a:ext cx="657360" cy="529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  <a:effectLst>
                <a:outerShdw dist="17819" dir="2700000" blurRad="0" rotWithShape="0">
                  <a:srgbClr val="3c3c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043760" y="221040"/>
              <a:ext cx="698400" cy="305640"/>
              <a:chOff x="7043760" y="221040"/>
              <a:chExt cx="698400" cy="305640"/>
            </a:xfrm>
          </p:grpSpPr>
          <p:sp>
            <p:nvSpPr>
              <p:cNvPr id="73" name=""/>
              <p:cNvSpPr/>
              <p:nvPr/>
            </p:nvSpPr>
            <p:spPr>
              <a:xfrm>
                <a:off x="7259760" y="221040"/>
                <a:ext cx="364320" cy="21636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259760" y="435240"/>
                <a:ext cx="365040" cy="6912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90920" y="391680"/>
                <a:ext cx="95400" cy="113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91080" y="253440"/>
                <a:ext cx="85680" cy="1180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91160" y="253440"/>
                <a:ext cx="86040" cy="1180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495920" y="253440"/>
                <a:ext cx="86040" cy="1180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69120" y="504720"/>
                <a:ext cx="355320" cy="21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83000" y="504720"/>
                <a:ext cx="113040" cy="21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276320" y="403200"/>
                <a:ext cx="325080" cy="3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298640" y="413640"/>
                <a:ext cx="29160" cy="11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342560" y="413640"/>
                <a:ext cx="29160" cy="11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386840" y="413640"/>
                <a:ext cx="29160" cy="11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428600" y="413640"/>
                <a:ext cx="29160" cy="11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94480" y="408600"/>
                <a:ext cx="12240" cy="12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11760" y="408600"/>
                <a:ext cx="12240" cy="12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0920" y="408600"/>
                <a:ext cx="12240" cy="12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60720" y="408600"/>
                <a:ext cx="12240" cy="12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043760" y="360360"/>
                <a:ext cx="171000" cy="324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07920" y="255600"/>
                <a:ext cx="51480" cy="1918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24800" y="233280"/>
                <a:ext cx="117360" cy="29304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7638840" y="264240"/>
                <a:ext cx="72360" cy="110160"/>
                <a:chOff x="7638840" y="264240"/>
                <a:chExt cx="72360" cy="110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638840" y="264240"/>
                  <a:ext cx="72360" cy="110160"/>
                </a:xfrm>
                <a:prstGeom prst="rect">
                  <a:avLst/>
                </a:prstGeom>
                <a:solidFill>
                  <a:srgbClr val="037dd9"/>
                </a:solidFill>
                <a:ln w="0">
                  <a:noFill/>
                </a:ln>
                <a:effectLst>
                  <a:outerShdw dist="17819" dir="2700000" blurRad="0" rotWithShape="0">
                    <a:srgbClr val="014a8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50000" y="274320"/>
                  <a:ext cx="50400" cy="3888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  <a:effectLst>
                  <a:outerShdw dist="153753" dir="2700000" blurRad="0" rotWithShape="0">
                    <a:srgbClr val="5b79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9280" y="317520"/>
                  <a:ext cx="50760" cy="360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1e1e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97" name=""/>
            <p:cNvGrpSpPr/>
            <p:nvPr/>
          </p:nvGrpSpPr>
          <p:grpSpPr>
            <a:xfrm>
              <a:off x="5214960" y="282600"/>
              <a:ext cx="333000" cy="232200"/>
              <a:chOff x="5214960" y="282600"/>
              <a:chExt cx="333000" cy="232200"/>
            </a:xfrm>
          </p:grpSpPr>
          <p:sp>
            <p:nvSpPr>
              <p:cNvPr id="98" name=""/>
              <p:cNvSpPr/>
              <p:nvPr/>
            </p:nvSpPr>
            <p:spPr>
              <a:xfrm>
                <a:off x="5220360" y="478080"/>
                <a:ext cx="320760" cy="36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4960" y="282600"/>
                <a:ext cx="333000" cy="19584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15040" y="286920"/>
                <a:ext cx="106560" cy="15120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53753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39240" y="302760"/>
                <a:ext cx="69840" cy="10584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7819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450040" y="312840"/>
                <a:ext cx="48960" cy="374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53753" dir="2700000" blurRad="0" rotWithShape="0">
                  <a:srgbClr val="5b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26560" y="302040"/>
                <a:ext cx="86400" cy="856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14960" y="439560"/>
                <a:ext cx="33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49680" y="354240"/>
                <a:ext cx="48960" cy="34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53753" dir="2700000" blurRad="0" rotWithShape="0">
                  <a:srgbClr val="1e1e1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503320" y="306000"/>
              <a:ext cx="362880" cy="261000"/>
              <a:chOff x="5503320" y="306000"/>
              <a:chExt cx="362880" cy="261000"/>
            </a:xfrm>
          </p:grpSpPr>
          <p:sp>
            <p:nvSpPr>
              <p:cNvPr id="107" name=""/>
              <p:cNvSpPr/>
              <p:nvPr/>
            </p:nvSpPr>
            <p:spPr>
              <a:xfrm>
                <a:off x="5509440" y="525600"/>
                <a:ext cx="349560" cy="414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03320" y="306000"/>
                <a:ext cx="362880" cy="22032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12400" y="311040"/>
                <a:ext cx="115920" cy="16992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53753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47760" y="328680"/>
                <a:ext cx="76320" cy="11916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7819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339840"/>
                <a:ext cx="53280" cy="421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53753" dir="2700000" blurRad="0" rotWithShape="0">
                  <a:srgbClr val="5b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24640" y="327960"/>
                <a:ext cx="94320" cy="964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03320" y="482400"/>
                <a:ext cx="3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58920" y="386640"/>
                <a:ext cx="53280" cy="388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53753" dir="2700000" blurRad="0" rotWithShape="0">
                  <a:srgbClr val="1e1e1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829480" y="345960"/>
              <a:ext cx="423000" cy="295200"/>
              <a:chOff x="5829480" y="345960"/>
              <a:chExt cx="423000" cy="295200"/>
            </a:xfrm>
          </p:grpSpPr>
          <p:sp>
            <p:nvSpPr>
              <p:cNvPr id="116" name=""/>
              <p:cNvSpPr/>
              <p:nvPr/>
            </p:nvSpPr>
            <p:spPr>
              <a:xfrm>
                <a:off x="5836680" y="594360"/>
                <a:ext cx="407520" cy="46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29480" y="345960"/>
                <a:ext cx="423000" cy="24912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56560" y="351720"/>
                <a:ext cx="135360" cy="19224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53753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14600" y="371880"/>
                <a:ext cx="88920" cy="13464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7819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28280" y="384480"/>
                <a:ext cx="61920" cy="478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53753" dir="2700000" blurRad="0" rotWithShape="0">
                  <a:srgbClr val="5b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970960" y="370800"/>
                <a:ext cx="109800" cy="1090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29480" y="545400"/>
                <a:ext cx="42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127560" y="437040"/>
                <a:ext cx="62280" cy="439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53753" dir="2700000" blurRad="0" rotWithShape="0">
                  <a:srgbClr val="1e1e1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576640" y="304920"/>
              <a:ext cx="146880" cy="145800"/>
              <a:chOff x="8576640" y="304920"/>
              <a:chExt cx="146880" cy="145800"/>
            </a:xfrm>
          </p:grpSpPr>
          <p:sp>
            <p:nvSpPr>
              <p:cNvPr id="125" name=""/>
              <p:cNvSpPr/>
              <p:nvPr/>
            </p:nvSpPr>
            <p:spPr>
              <a:xfrm>
                <a:off x="8589600" y="304920"/>
                <a:ext cx="120240" cy="1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02200" y="318960"/>
                <a:ext cx="95400" cy="77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8576640" y="422640"/>
                <a:ext cx="146880" cy="28080"/>
                <a:chOff x="8576640" y="422640"/>
                <a:chExt cx="146880" cy="280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576640" y="446400"/>
                  <a:ext cx="146880" cy="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76640" y="422640"/>
                  <a:ext cx="146880" cy="23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8586720" y="426960"/>
                  <a:ext cx="122400" cy="14400"/>
                  <a:chOff x="8586720" y="426960"/>
                  <a:chExt cx="122400" cy="144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8586720" y="426960"/>
                    <a:ext cx="23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606520" y="426960"/>
                    <a:ext cx="84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8691120" y="427320"/>
                    <a:ext cx="18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grpSp>
          <p:nvGrpSpPr>
            <p:cNvPr id="134" name=""/>
            <p:cNvGrpSpPr/>
            <p:nvPr/>
          </p:nvGrpSpPr>
          <p:grpSpPr>
            <a:xfrm>
              <a:off x="8714880" y="128520"/>
              <a:ext cx="295920" cy="408240"/>
              <a:chOff x="8714880" y="128520"/>
              <a:chExt cx="295920" cy="408240"/>
            </a:xfrm>
          </p:grpSpPr>
          <p:sp>
            <p:nvSpPr>
              <p:cNvPr id="135" name=""/>
              <p:cNvSpPr/>
              <p:nvPr/>
            </p:nvSpPr>
            <p:spPr>
              <a:xfrm>
                <a:off x="8714880" y="128520"/>
                <a:ext cx="290520" cy="3906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23160" y="382320"/>
                <a:ext cx="274680" cy="73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41600" y="358560"/>
                <a:ext cx="32760" cy="14040"/>
              </a:xfrm>
              <a:prstGeom prst="rect">
                <a:avLst/>
              </a:prstGeom>
              <a:solidFill>
                <a:srgbClr val="9dccdf"/>
              </a:solidFill>
              <a:ln w="9360">
                <a:solidFill>
                  <a:srgbClr val="808080"/>
                </a:solidFill>
                <a:miter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727480" y="519120"/>
                <a:ext cx="26784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14880" y="3448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14880" y="23436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714880" y="455400"/>
                <a:ext cx="295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728560" y="432720"/>
                <a:ext cx="6192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96600" y="432720"/>
                <a:ext cx="6300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862840" y="432720"/>
                <a:ext cx="6264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929080" y="432720"/>
                <a:ext cx="6264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28560" y="401760"/>
                <a:ext cx="61920" cy="1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796600" y="401760"/>
                <a:ext cx="63000" cy="1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862840" y="401760"/>
                <a:ext cx="62640" cy="1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929080" y="401760"/>
                <a:ext cx="62640" cy="1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28560" y="386280"/>
                <a:ext cx="6192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796600" y="386280"/>
                <a:ext cx="6300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862840" y="386280"/>
                <a:ext cx="6264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29080" y="386280"/>
                <a:ext cx="6264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064280" y="630252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76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inTool-ESPRIT CAM Interfa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484360" y="3119400"/>
            <a:ext cx="3753000" cy="279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703680" y="2328840"/>
            <a:ext cx="17161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1401840" y="2041560"/>
            <a:ext cx="6257880" cy="45100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981600" y="3397320"/>
            <a:ext cx="2527200" cy="657000"/>
          </a:xfrm>
          <a:prstGeom prst="wedgeRoundRectCallout">
            <a:avLst>
              <a:gd name="adj1" fmla="val 67777"/>
              <a:gd name="adj2" fmla="val -18406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UT generates Tool List of NC-Program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2031840" y="2743200"/>
            <a:ext cx="5048280" cy="25909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4791240" y="5511960"/>
            <a:ext cx="2736720" cy="876240"/>
          </a:xfrm>
          <a:prstGeom prst="wedgeRoundRectCallout">
            <a:avLst>
              <a:gd name="adj1" fmla="val -19430"/>
              <a:gd name="adj2" fmla="val -9257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NC-Program Header Info and USED Tools will be transferred to </a:t>
            </a:r>
            <a:r>
              <a:rPr b="1" i="1" lang="de-CH" sz="1600" spc="-1" strike="noStrike">
                <a:solidFill>
                  <a:srgbClr val="333333"/>
                </a:solidFill>
                <a:latin typeface="Arial"/>
              </a:rPr>
              <a:t>WinTool.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4"/>
          <a:stretch/>
        </p:blipFill>
        <p:spPr>
          <a:xfrm>
            <a:off x="1636560" y="2359080"/>
            <a:ext cx="5819760" cy="38671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581280" y="4819680"/>
            <a:ext cx="2927520" cy="657360"/>
          </a:xfrm>
          <a:prstGeom prst="wedgeRoundRectCallout">
            <a:avLst>
              <a:gd name="adj1" fmla="val -60032"/>
              <a:gd name="adj2" fmla="val -104828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New Tool List is Directly Available on Shop Floor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Automatic Tool Document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Automatic Tool Document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359000" y="2025720"/>
            <a:ext cx="3205080" cy="45352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707000" y="2027160"/>
            <a:ext cx="3421080" cy="45230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</p:pic>
      <p:sp>
        <p:nvSpPr>
          <p:cNvPr id="519" name=""/>
          <p:cNvSpPr/>
          <p:nvPr/>
        </p:nvSpPr>
        <p:spPr>
          <a:xfrm>
            <a:off x="3371760" y="4314960"/>
            <a:ext cx="2527560" cy="657000"/>
          </a:xfrm>
          <a:prstGeom prst="wedgeRoundRectCallout">
            <a:avLst>
              <a:gd name="adj1" fmla="val -17148"/>
              <a:gd name="adj2" fmla="val -3816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... as Tool List, Set up List, Picklist etc.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0" name=""/>
          <p:cNvSpPr/>
          <p:nvPr/>
        </p:nvSpPr>
        <p:spPr>
          <a:xfrm>
            <a:off x="3368520" y="4626000"/>
            <a:ext cx="2527560" cy="657360"/>
          </a:xfrm>
          <a:prstGeom prst="wedgeRoundRectCallout">
            <a:avLst>
              <a:gd name="adj1" fmla="val -8481"/>
              <a:gd name="adj2" fmla="val -4831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Cutomize your Own Print Reports!!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Features for 2D/3D Rotating Too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8120" y="2558880"/>
            <a:ext cx="4124520" cy="2806560"/>
            <a:chOff x="438120" y="2558880"/>
            <a:chExt cx="4124520" cy="2806560"/>
          </a:xfrm>
        </p:grpSpPr>
        <p:sp>
          <p:nvSpPr>
            <p:cNvPr id="524" name=""/>
            <p:cNvSpPr/>
            <p:nvPr/>
          </p:nvSpPr>
          <p:spPr>
            <a:xfrm>
              <a:off x="457200" y="4997160"/>
              <a:ext cx="39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ffffff"/>
                  </a:solidFill>
                  <a:latin typeface="Arial"/>
                </a:rPr>
                <a:t>WinTool Professional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8120" y="2558880"/>
              <a:ext cx="4124520" cy="2771640"/>
            </a:xfrm>
            <a:prstGeom prst="rect">
              <a:avLst/>
            </a:prstGeom>
            <a:noFill/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619520" y="2558880"/>
            <a:ext cx="4172040" cy="2793960"/>
            <a:chOff x="4619520" y="2558880"/>
            <a:chExt cx="4172040" cy="2793960"/>
          </a:xfrm>
        </p:grpSpPr>
        <p:sp>
          <p:nvSpPr>
            <p:cNvPr id="527" name=""/>
            <p:cNvSpPr/>
            <p:nvPr/>
          </p:nvSpPr>
          <p:spPr>
            <a:xfrm>
              <a:off x="4619520" y="2558880"/>
              <a:ext cx="4172040" cy="27716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73520" y="4984560"/>
              <a:ext cx="39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ffffff"/>
                  </a:solidFill>
                  <a:latin typeface="Arial"/>
                </a:rPr>
                <a:t>WinTool-ESPRIT-Interface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42880" y="2647800"/>
            <a:ext cx="1876320" cy="2181240"/>
            <a:chOff x="542880" y="2647800"/>
            <a:chExt cx="1876320" cy="2181240"/>
          </a:xfrm>
        </p:grpSpPr>
        <p:sp>
          <p:nvSpPr>
            <p:cNvPr id="530" name=""/>
            <p:cNvSpPr/>
            <p:nvPr/>
          </p:nvSpPr>
          <p:spPr>
            <a:xfrm>
              <a:off x="545760" y="2647800"/>
              <a:ext cx="1868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s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2"/>
            <a:stretch/>
          </p:blipFill>
          <p:spPr>
            <a:xfrm>
              <a:off x="542880" y="3087360"/>
              <a:ext cx="1876320" cy="1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49000" y="4402080"/>
              <a:ext cx="186660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DXF-Generator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238120" y="2651040"/>
            <a:ext cx="2278440" cy="2322360"/>
            <a:chOff x="2238120" y="2651040"/>
            <a:chExt cx="2278440" cy="2322360"/>
          </a:xfrm>
        </p:grpSpPr>
        <p:grpSp>
          <p:nvGrpSpPr>
            <p:cNvPr id="534" name=""/>
            <p:cNvGrpSpPr/>
            <p:nvPr/>
          </p:nvGrpSpPr>
          <p:grpSpPr>
            <a:xfrm>
              <a:off x="2238120" y="4816080"/>
              <a:ext cx="509400" cy="157320"/>
              <a:chOff x="2238120" y="4816080"/>
              <a:chExt cx="509400" cy="15732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2743200" y="4816080"/>
                <a:ext cx="0" cy="1526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238120" y="496692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2239920" y="4825800"/>
                <a:ext cx="0" cy="147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38360" y="2651040"/>
              <a:ext cx="1978200" cy="2180520"/>
              <a:chOff x="2538360" y="2651040"/>
              <a:chExt cx="1978200" cy="2180520"/>
            </a:xfrm>
          </p:grpSpPr>
          <p:sp>
            <p:nvSpPr>
              <p:cNvPr id="539" name=""/>
              <p:cNvSpPr/>
              <p:nvPr/>
            </p:nvSpPr>
            <p:spPr>
              <a:xfrm>
                <a:off x="2540160" y="2651040"/>
                <a:ext cx="1976400" cy="4410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ssembly</a:t>
                </a:r>
                <a:endParaRPr b="0" lang="en-US" sz="18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pic>
            <p:nvPicPr>
              <p:cNvPr id="5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8360" y="3092040"/>
                <a:ext cx="1974960" cy="13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2543400" y="4404600"/>
                <a:ext cx="1966680" cy="42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400" spc="-1" strike="noStrike">
                    <a:solidFill>
                      <a:srgbClr val="ffffff"/>
                    </a:solidFill>
                    <a:latin typeface="Arial"/>
                  </a:rPr>
                  <a:t>Search Matching</a:t>
                </a:r>
                <a:endParaRPr b="0" lang="en-US" sz="1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4333680" y="2651040"/>
            <a:ext cx="2335320" cy="2325600"/>
            <a:chOff x="4333680" y="2651040"/>
            <a:chExt cx="2335320" cy="2325600"/>
          </a:xfrm>
        </p:grpSpPr>
        <p:grpSp>
          <p:nvGrpSpPr>
            <p:cNvPr id="543" name=""/>
            <p:cNvGrpSpPr/>
            <p:nvPr/>
          </p:nvGrpSpPr>
          <p:grpSpPr>
            <a:xfrm>
              <a:off x="4673520" y="2651040"/>
              <a:ext cx="1995480" cy="2185920"/>
              <a:chOff x="4673520" y="2651040"/>
              <a:chExt cx="1995480" cy="21859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73520" y="2651040"/>
                <a:ext cx="1995480" cy="4413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XF-Contour</a:t>
                </a:r>
                <a:endParaRPr b="0" lang="en-US" sz="18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pic>
            <p:nvPicPr>
              <p:cNvPr id="5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75320" y="3092400"/>
                <a:ext cx="1990800" cy="131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680000" y="4395600"/>
                <a:ext cx="1981080" cy="44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400" spc="-1" strike="noStrike">
                    <a:solidFill>
                      <a:srgbClr val="ffffff"/>
                    </a:solidFill>
                    <a:latin typeface="Arial"/>
                  </a:rPr>
                  <a:t>Shape-Generator</a:t>
                </a:r>
                <a:endParaRPr b="0" lang="en-US" sz="1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333680" y="4819320"/>
              <a:ext cx="509400" cy="157320"/>
              <a:chOff x="4333680" y="4819320"/>
              <a:chExt cx="509400" cy="157320"/>
            </a:xfrm>
          </p:grpSpPr>
          <p:sp>
            <p:nvSpPr>
              <p:cNvPr id="548" name=""/>
              <p:cNvSpPr/>
              <p:nvPr/>
            </p:nvSpPr>
            <p:spPr>
              <a:xfrm flipV="1">
                <a:off x="4838760" y="4819320"/>
                <a:ext cx="0" cy="1526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4333680" y="497016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4335480" y="4829040"/>
                <a:ext cx="0" cy="147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51" name=""/>
          <p:cNvGrpSpPr/>
          <p:nvPr/>
        </p:nvGrpSpPr>
        <p:grpSpPr>
          <a:xfrm>
            <a:off x="6457680" y="2654280"/>
            <a:ext cx="2256120" cy="2331360"/>
            <a:chOff x="6457680" y="2654280"/>
            <a:chExt cx="2256120" cy="2331360"/>
          </a:xfrm>
        </p:grpSpPr>
        <p:grpSp>
          <p:nvGrpSpPr>
            <p:cNvPr id="552" name=""/>
            <p:cNvGrpSpPr/>
            <p:nvPr/>
          </p:nvGrpSpPr>
          <p:grpSpPr>
            <a:xfrm>
              <a:off x="6778800" y="2654280"/>
              <a:ext cx="1935000" cy="2179800"/>
              <a:chOff x="6778800" y="2654280"/>
              <a:chExt cx="1935000" cy="2179800"/>
            </a:xfrm>
          </p:grpSpPr>
          <p:sp>
            <p:nvSpPr>
              <p:cNvPr id="553" name=""/>
              <p:cNvSpPr/>
              <p:nvPr/>
            </p:nvSpPr>
            <p:spPr>
              <a:xfrm>
                <a:off x="6782040" y="2654280"/>
                <a:ext cx="1931760" cy="4413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D Model</a:t>
                </a:r>
                <a:endParaRPr b="0" lang="en-US" sz="18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pic>
            <p:nvPicPr>
              <p:cNvPr id="5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78800" y="3090960"/>
                <a:ext cx="1930320" cy="1743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5" name=""/>
            <p:cNvGrpSpPr/>
            <p:nvPr/>
          </p:nvGrpSpPr>
          <p:grpSpPr>
            <a:xfrm>
              <a:off x="6457680" y="4829040"/>
              <a:ext cx="509400" cy="156600"/>
              <a:chOff x="6457680" y="4829040"/>
              <a:chExt cx="509400" cy="156600"/>
            </a:xfrm>
          </p:grpSpPr>
          <p:sp>
            <p:nvSpPr>
              <p:cNvPr id="556" name=""/>
              <p:cNvSpPr/>
              <p:nvPr/>
            </p:nvSpPr>
            <p:spPr>
              <a:xfrm flipV="1">
                <a:off x="6962760" y="4829040"/>
                <a:ext cx="0" cy="15228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6457680" y="4979880"/>
                <a:ext cx="50940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459480" y="4838400"/>
                <a:ext cx="0" cy="1472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2828880" y="5521320"/>
            <a:ext cx="3359160" cy="568440"/>
          </a:xfrm>
          <a:prstGeom prst="wedgeRoundRectCallout">
            <a:avLst>
              <a:gd name="adj1" fmla="val -24527"/>
              <a:gd name="adj2" fmla="val -18603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Quick Graphic Assembly with available Components in Tool Crib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0" name=""/>
          <p:cNvSpPr/>
          <p:nvPr/>
        </p:nvSpPr>
        <p:spPr>
          <a:xfrm>
            <a:off x="2822400" y="5524560"/>
            <a:ext cx="3368880" cy="568440"/>
          </a:xfrm>
          <a:prstGeom prst="wedgeRoundRectCallout">
            <a:avLst>
              <a:gd name="adj1" fmla="val -68143"/>
              <a:gd name="adj2" fmla="val -206143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Tool-Drawing-Generator for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Rotating Cutters and Holders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1" name=""/>
          <p:cNvSpPr/>
          <p:nvPr/>
        </p:nvSpPr>
        <p:spPr>
          <a:xfrm>
            <a:off x="2825640" y="5518080"/>
            <a:ext cx="3359160" cy="568440"/>
          </a:xfrm>
          <a:prstGeom prst="wedgeRoundRectCallout">
            <a:avLst>
              <a:gd name="adj1" fmla="val 27930"/>
              <a:gd name="adj2" fmla="val -17765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utomatic Calculation of Contour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nd Generation as a DXF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2" name=""/>
          <p:cNvSpPr/>
          <p:nvPr/>
        </p:nvSpPr>
        <p:spPr>
          <a:xfrm>
            <a:off x="2822400" y="5524560"/>
            <a:ext cx="3359160" cy="568440"/>
          </a:xfrm>
          <a:prstGeom prst="wedgeRoundRectCallout">
            <a:avLst>
              <a:gd name="adj1" fmla="val 80101"/>
              <a:gd name="adj2" fmla="val -23296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utomatic Rotation to get 3D Model 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ith Cut/Non-Cut Layers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3" name=""/>
          <p:cNvSpPr/>
          <p:nvPr/>
        </p:nvSpPr>
        <p:spPr>
          <a:xfrm>
            <a:off x="2825640" y="5524560"/>
            <a:ext cx="3718080" cy="568440"/>
          </a:xfrm>
          <a:prstGeom prst="wedgeRoundRectCallout">
            <a:avLst>
              <a:gd name="adj1" fmla="val 18361"/>
              <a:gd name="adj2" fmla="val -284916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You can even customize the DXF-File for Special Tools (e.g. Form Tools)!!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atures for Asymmetric Too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50720" y="2558880"/>
            <a:ext cx="6257520" cy="2806560"/>
            <a:chOff x="450720" y="2558880"/>
            <a:chExt cx="6257520" cy="2806560"/>
          </a:xfrm>
        </p:grpSpPr>
        <p:sp>
          <p:nvSpPr>
            <p:cNvPr id="567" name=""/>
            <p:cNvSpPr/>
            <p:nvPr/>
          </p:nvSpPr>
          <p:spPr>
            <a:xfrm>
              <a:off x="479520" y="4997160"/>
              <a:ext cx="602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ffffff"/>
                  </a:solidFill>
                  <a:latin typeface="Arial"/>
                </a:rPr>
                <a:t>WinTool Professional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0720" y="2558880"/>
              <a:ext cx="6257520" cy="2771640"/>
            </a:xfrm>
            <a:prstGeom prst="rect">
              <a:avLst/>
            </a:prstGeom>
            <a:noFill/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740640" y="2558880"/>
            <a:ext cx="2063520" cy="2793960"/>
            <a:chOff x="6740640" y="2558880"/>
            <a:chExt cx="2063520" cy="2793960"/>
          </a:xfrm>
        </p:grpSpPr>
        <p:sp>
          <p:nvSpPr>
            <p:cNvPr id="570" name=""/>
            <p:cNvSpPr/>
            <p:nvPr/>
          </p:nvSpPr>
          <p:spPr>
            <a:xfrm>
              <a:off x="6740640" y="2558880"/>
              <a:ext cx="2063520" cy="27716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67280" y="498456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M-Interface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250720" y="2651040"/>
            <a:ext cx="2278440" cy="2322720"/>
            <a:chOff x="2250720" y="2651040"/>
            <a:chExt cx="2278440" cy="2322720"/>
          </a:xfrm>
        </p:grpSpPr>
        <p:pic>
          <p:nvPicPr>
            <p:cNvPr id="573" name="" descr=""/>
            <p:cNvPicPr/>
            <p:nvPr/>
          </p:nvPicPr>
          <p:blipFill>
            <a:blip r:embed="rId2"/>
            <a:stretch/>
          </p:blipFill>
          <p:spPr>
            <a:xfrm>
              <a:off x="2630520" y="3073320"/>
              <a:ext cx="1893960" cy="132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2250720" y="4816440"/>
              <a:ext cx="509400" cy="157320"/>
              <a:chOff x="2250720" y="4816440"/>
              <a:chExt cx="509400" cy="15732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2755800" y="4816440"/>
                <a:ext cx="0" cy="1526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250720" y="496728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252520" y="4826160"/>
                <a:ext cx="0" cy="147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629080" y="2651040"/>
              <a:ext cx="19000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31960" y="4405320"/>
              <a:ext cx="188604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arch Matching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319280" y="2651040"/>
            <a:ext cx="2335680" cy="2324880"/>
            <a:chOff x="4319280" y="2651040"/>
            <a:chExt cx="2335680" cy="2324880"/>
          </a:xfrm>
        </p:grpSpPr>
        <p:pic>
          <p:nvPicPr>
            <p:cNvPr id="581" name="" descr=""/>
            <p:cNvPicPr/>
            <p:nvPr/>
          </p:nvPicPr>
          <p:blipFill>
            <a:blip r:embed="rId3"/>
            <a:stretch/>
          </p:blipFill>
          <p:spPr>
            <a:xfrm>
              <a:off x="4659480" y="3086280"/>
              <a:ext cx="1989000" cy="13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4659480" y="2651040"/>
              <a:ext cx="19954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-Manager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65600" y="4395960"/>
              <a:ext cx="1981080" cy="441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inked STL-File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4319280" y="4819320"/>
              <a:ext cx="509400" cy="156600"/>
              <a:chOff x="4319280" y="4819320"/>
              <a:chExt cx="509400" cy="156600"/>
            </a:xfrm>
          </p:grpSpPr>
          <p:sp>
            <p:nvSpPr>
              <p:cNvPr id="585" name=""/>
              <p:cNvSpPr/>
              <p:nvPr/>
            </p:nvSpPr>
            <p:spPr>
              <a:xfrm flipV="1">
                <a:off x="4824360" y="4819320"/>
                <a:ext cx="0" cy="15228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4319280" y="497016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321080" y="4828680"/>
                <a:ext cx="0" cy="1472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88" name=""/>
          <p:cNvGrpSpPr/>
          <p:nvPr/>
        </p:nvGrpSpPr>
        <p:grpSpPr>
          <a:xfrm>
            <a:off x="6470280" y="2654280"/>
            <a:ext cx="2262600" cy="2331360"/>
            <a:chOff x="6470280" y="2654280"/>
            <a:chExt cx="2262600" cy="2331360"/>
          </a:xfrm>
        </p:grpSpPr>
        <p:pic>
          <p:nvPicPr>
            <p:cNvPr id="589" name="" descr=""/>
            <p:cNvPicPr/>
            <p:nvPr/>
          </p:nvPicPr>
          <p:blipFill>
            <a:blip r:embed="rId4"/>
            <a:stretch/>
          </p:blipFill>
          <p:spPr>
            <a:xfrm>
              <a:off x="6797520" y="3083040"/>
              <a:ext cx="193536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94640" y="2654280"/>
              <a:ext cx="193176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D Model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6470280" y="4829040"/>
              <a:ext cx="509400" cy="156600"/>
              <a:chOff x="6470280" y="4829040"/>
              <a:chExt cx="509400" cy="156600"/>
            </a:xfrm>
          </p:grpSpPr>
          <p:sp>
            <p:nvSpPr>
              <p:cNvPr id="592" name=""/>
              <p:cNvSpPr/>
              <p:nvPr/>
            </p:nvSpPr>
            <p:spPr>
              <a:xfrm flipV="1">
                <a:off x="6975360" y="4829040"/>
                <a:ext cx="0" cy="15228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470280" y="4979880"/>
                <a:ext cx="50940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472080" y="4838400"/>
                <a:ext cx="0" cy="1472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546120" y="2647800"/>
            <a:ext cx="1930320" cy="2184120"/>
            <a:chOff x="546120" y="2647800"/>
            <a:chExt cx="1930320" cy="2184120"/>
          </a:xfrm>
        </p:grpSpPr>
        <p:pic>
          <p:nvPicPr>
            <p:cNvPr id="596" name="" descr=""/>
            <p:cNvPicPr/>
            <p:nvPr/>
          </p:nvPicPr>
          <p:blipFill>
            <a:blip r:embed="rId5"/>
            <a:stretch/>
          </p:blipFill>
          <p:spPr>
            <a:xfrm>
              <a:off x="546120" y="3009600"/>
              <a:ext cx="19303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46120" y="2647800"/>
              <a:ext cx="193032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s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9360" y="4404960"/>
              <a:ext cx="192060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 &amp; Modify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2835360" y="5524560"/>
            <a:ext cx="3368520" cy="568440"/>
          </a:xfrm>
          <a:prstGeom prst="wedgeRoundRectCallout">
            <a:avLst>
              <a:gd name="adj1" fmla="val -68143"/>
              <a:gd name="adj2" fmla="val -206143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Catalog Data is Availabl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or 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Get DXF / 3D Model from Suppliers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0" name=""/>
          <p:cNvSpPr/>
          <p:nvPr/>
        </p:nvSpPr>
        <p:spPr>
          <a:xfrm>
            <a:off x="2841480" y="5521320"/>
            <a:ext cx="3359160" cy="568440"/>
          </a:xfrm>
          <a:prstGeom prst="wedgeRoundRectCallout">
            <a:avLst>
              <a:gd name="adj1" fmla="val -24527"/>
              <a:gd name="adj2" fmla="val -18603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Quick Tool Assembly incl. 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ccurate Presetting Instructions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2800440" y="5518080"/>
            <a:ext cx="3397320" cy="809640"/>
          </a:xfrm>
          <a:prstGeom prst="wedgeRoundRectCallout">
            <a:avLst>
              <a:gd name="adj1" fmla="val 28175"/>
              <a:gd name="adj2" fmla="val -139606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 New Created STL-Files is 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linked to WinTool Assembly 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or further use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2" name=""/>
          <p:cNvSpPr/>
          <p:nvPr/>
        </p:nvSpPr>
        <p:spPr>
          <a:xfrm>
            <a:off x="2797200" y="5524560"/>
            <a:ext cx="3397320" cy="809640"/>
          </a:xfrm>
          <a:prstGeom prst="wedgeRoundRectCallout">
            <a:avLst>
              <a:gd name="adj1" fmla="val 75652"/>
              <a:gd name="adj2" fmla="val -159606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ssembly Data Is Transferred to ESPRIT CAM and STL is Connected to Turret Position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KnowledgeBase and WinToo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1413000" y="2048040"/>
            <a:ext cx="6246720" cy="4506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2347920" y="2374920"/>
            <a:ext cx="1363680" cy="26416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3657600" y="2381400"/>
            <a:ext cx="1616040" cy="18730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1785960" y="2270160"/>
            <a:ext cx="5391000" cy="40305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3448080" y="3238560"/>
            <a:ext cx="3022560" cy="1619280"/>
          </a:xfrm>
          <a:prstGeom prst="wedgeRoundRectCallout">
            <a:avLst>
              <a:gd name="adj1" fmla="val -59717"/>
              <a:gd name="adj2" fmla="val -7225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333333"/>
                </a:solidFill>
                <a:latin typeface="Arial"/>
              </a:rPr>
              <a:t>WinTool</a:t>
            </a: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 Feeds and Speeds imported for each: 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Tool Assembly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Work Material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CNC/Strategy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289480" y="2487600"/>
            <a:ext cx="3362400" cy="24112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496280" y="6388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485640" y="3575160"/>
            <a:ext cx="4759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can pop a new tool assembl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together in a skinny minute…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can verify my program exactly.” 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concise setup instructions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misinterpretation in presetting is no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longer a problem.” 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3" name=""/>
          <p:cNvSpPr/>
          <p:nvPr/>
        </p:nvSpPr>
        <p:spPr>
          <a:xfrm>
            <a:off x="271440" y="2470320"/>
            <a:ext cx="472284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aig Green, NC-Programmer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t Belvac Machinery, VA (USA)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1486080"/>
            <a:ext cx="7772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Statements 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6072120" y="2446200"/>
            <a:ext cx="2754360" cy="3807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71440" y="2470320"/>
            <a:ext cx="553104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rc Bissel, NC-programmer at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a-Val, CA (USA)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8" name=""/>
          <p:cNvSpPr/>
          <p:nvPr/>
        </p:nvSpPr>
        <p:spPr>
          <a:xfrm>
            <a:off x="1555920" y="3784680"/>
            <a:ext cx="4254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gnificant higher throughput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in Programming and Tool Crib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0% more machining time due to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less machine standstill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486080"/>
            <a:ext cx="7772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Statements 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315040" y="2476440"/>
            <a:ext cx="3282840" cy="19130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2" name=""/>
          <p:cNvSpPr/>
          <p:nvPr/>
        </p:nvSpPr>
        <p:spPr>
          <a:xfrm>
            <a:off x="271440" y="2470320"/>
            <a:ext cx="472284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no Dobl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ESPRIT Programmer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 &amp; Son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3" name=""/>
          <p:cNvSpPr/>
          <p:nvPr/>
        </p:nvSpPr>
        <p:spPr>
          <a:xfrm>
            <a:off x="447840" y="3681360"/>
            <a:ext cx="49496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 our tool organization is online an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totally transparent. 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reduced my work time per NC-progra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significantly.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restructuring has been welcome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by all co-workers.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1486080"/>
            <a:ext cx="7772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Statements 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5315040" y="4486320"/>
            <a:ext cx="3271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7" name=""/>
          <p:cNvSpPr/>
          <p:nvPr/>
        </p:nvSpPr>
        <p:spPr>
          <a:xfrm>
            <a:off x="1074600" y="3137040"/>
            <a:ext cx="722484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85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385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385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064280" y="630252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476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ool Library Dat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64080" y="2290680"/>
            <a:ext cx="1814040" cy="917280"/>
            <a:chOff x="3664080" y="2290680"/>
            <a:chExt cx="1814040" cy="917280"/>
          </a:xfrm>
        </p:grpSpPr>
        <p:sp>
          <p:nvSpPr>
            <p:cNvPr id="197" name=""/>
            <p:cNvSpPr/>
            <p:nvPr/>
          </p:nvSpPr>
          <p:spPr>
            <a:xfrm>
              <a:off x="3664080" y="229068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3853440" y="254808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728640" y="3887640"/>
            <a:ext cx="2540160" cy="2441880"/>
            <a:chOff x="728640" y="3887640"/>
            <a:chExt cx="2540160" cy="2441880"/>
          </a:xfrm>
        </p:grpSpPr>
        <p:sp>
          <p:nvSpPr>
            <p:cNvPr id="200" name=""/>
            <p:cNvSpPr/>
            <p:nvPr/>
          </p:nvSpPr>
          <p:spPr>
            <a:xfrm>
              <a:off x="923760" y="5888160"/>
              <a:ext cx="21862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3890880"/>
              <a:ext cx="609480" cy="387360"/>
            </a:xfrm>
            <a:prstGeom prst="wedgeRectCallout">
              <a:avLst>
                <a:gd name="adj1" fmla="val 329949"/>
                <a:gd name="adj2" fmla="val -24631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728640" y="3887640"/>
              <a:ext cx="2540160" cy="189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371760" y="3884760"/>
            <a:ext cx="2670120" cy="2460600"/>
            <a:chOff x="3371760" y="3884760"/>
            <a:chExt cx="2670120" cy="2460600"/>
          </a:xfrm>
        </p:grpSpPr>
        <p:sp>
          <p:nvSpPr>
            <p:cNvPr id="204" name=""/>
            <p:cNvSpPr/>
            <p:nvPr/>
          </p:nvSpPr>
          <p:spPr>
            <a:xfrm>
              <a:off x="3584520" y="590400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 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06760" y="3890880"/>
              <a:ext cx="609840" cy="387360"/>
            </a:xfrm>
            <a:prstGeom prst="wedgeRectCallout">
              <a:avLst>
                <a:gd name="adj1" fmla="val -6509"/>
                <a:gd name="adj2" fmla="val -255328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3371760" y="3884760"/>
              <a:ext cx="2670120" cy="18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6183360" y="2617920"/>
            <a:ext cx="2262240" cy="3713040"/>
            <a:chOff x="6183360" y="2617920"/>
            <a:chExt cx="2262240" cy="3713040"/>
          </a:xfrm>
        </p:grpSpPr>
        <p:sp>
          <p:nvSpPr>
            <p:cNvPr id="208" name=""/>
            <p:cNvSpPr/>
            <p:nvPr/>
          </p:nvSpPr>
          <p:spPr>
            <a:xfrm>
              <a:off x="6208560" y="588960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88040" y="3890880"/>
              <a:ext cx="60948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183360" y="2617920"/>
              <a:ext cx="2262240" cy="3160440"/>
              <a:chOff x="6183360" y="2617920"/>
              <a:chExt cx="2262240" cy="3160440"/>
            </a:xfrm>
          </p:grpSpPr>
          <p:sp>
            <p:nvSpPr>
              <p:cNvPr id="211" name=""/>
              <p:cNvSpPr/>
              <p:nvPr/>
            </p:nvSpPr>
            <p:spPr>
              <a:xfrm>
                <a:off x="6183360" y="2617920"/>
                <a:ext cx="2262240" cy="316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pic>
            <p:nvPicPr>
              <p:cNvPr id="21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86320" y="2771640"/>
                <a:ext cx="2086200" cy="29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5038560" y="4274640"/>
            <a:ext cx="3407040" cy="2056320"/>
            <a:chOff x="5038560" y="4274640"/>
            <a:chExt cx="3407040" cy="2056320"/>
          </a:xfrm>
        </p:grpSpPr>
        <p:sp>
          <p:nvSpPr>
            <p:cNvPr id="214" name=""/>
            <p:cNvSpPr/>
            <p:nvPr/>
          </p:nvSpPr>
          <p:spPr>
            <a:xfrm flipH="1" flipV="1">
              <a:off x="5038560" y="4274640"/>
              <a:ext cx="1702080" cy="949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756400" y="4840200"/>
              <a:ext cx="2689200" cy="1490760"/>
              <a:chOff x="5756400" y="4840200"/>
              <a:chExt cx="2689200" cy="1490760"/>
            </a:xfrm>
          </p:grpSpPr>
          <p:sp>
            <p:nvSpPr>
              <p:cNvPr id="216" name=""/>
              <p:cNvSpPr/>
              <p:nvPr/>
            </p:nvSpPr>
            <p:spPr>
              <a:xfrm>
                <a:off x="6208560" y="5889600"/>
                <a:ext cx="2237040" cy="4413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ool Crib</a:t>
                </a:r>
                <a:endParaRPr b="0" lang="en-US" sz="18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6873480" y="5334120"/>
                <a:ext cx="7873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56400" y="5153040"/>
                <a:ext cx="612720" cy="441360"/>
              </a:xfrm>
              <a:prstGeom prst="flowChartDocumen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Arial"/>
                  </a:rPr>
                  <a:t>Setup </a:t>
                </a:r>
                <a:endParaRPr b="0" lang="en-US" sz="900" spc="-1" strike="noStrike">
                  <a:solidFill>
                    <a:srgbClr val="333333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Arial"/>
                  </a:rPr>
                  <a:t>Sheets</a:t>
                </a:r>
                <a:endParaRPr b="0" lang="en-US" sz="9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7410600" y="4840200"/>
                <a:ext cx="718920" cy="890640"/>
                <a:chOff x="7410600" y="4840200"/>
                <a:chExt cx="718920" cy="890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489080" y="4840200"/>
                  <a:ext cx="628920" cy="84276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07440" y="5388480"/>
                  <a:ext cx="594360" cy="1573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64120" y="5337000"/>
                  <a:ext cx="71280" cy="30600"/>
                </a:xfrm>
                <a:prstGeom prst="rect">
                  <a:avLst/>
                </a:prstGeom>
                <a:solidFill>
                  <a:srgbClr val="9dccdf"/>
                </a:solidFill>
                <a:ln w="9360">
                  <a:solidFill>
                    <a:srgbClr val="808080"/>
                  </a:solidFill>
                  <a:miter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517520" y="5682960"/>
                  <a:ext cx="579240" cy="37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489080" y="5307120"/>
                  <a:ext cx="628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89080" y="5069160"/>
                  <a:ext cx="628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89080" y="5546520"/>
                  <a:ext cx="640440" cy="18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17819" dir="2700000" blurRad="0" rotWithShape="0">
                    <a:srgbClr val="9898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18960" y="5497200"/>
                  <a:ext cx="135000" cy="29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66920" y="5497200"/>
                  <a:ext cx="135360" cy="29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809480" y="5497200"/>
                  <a:ext cx="135360" cy="29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52760" y="5497200"/>
                  <a:ext cx="135000" cy="29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518960" y="5430240"/>
                  <a:ext cx="135000" cy="33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666920" y="5430240"/>
                  <a:ext cx="135360" cy="33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09480" y="5430240"/>
                  <a:ext cx="135360" cy="33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952760" y="5430240"/>
                  <a:ext cx="135000" cy="33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518960" y="5396400"/>
                  <a:ext cx="135000" cy="19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666920" y="5396400"/>
                  <a:ext cx="135360" cy="19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809480" y="5396400"/>
                  <a:ext cx="135360" cy="19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952760" y="5396400"/>
                  <a:ext cx="135000" cy="19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pic>
              <p:nvPicPr>
                <p:cNvPr id="23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410600" y="5537160"/>
                  <a:ext cx="500400" cy="19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"/>
                <p:cNvSpPr/>
                <p:nvPr/>
              </p:nvSpPr>
              <p:spPr>
                <a:xfrm>
                  <a:off x="7489800" y="5534640"/>
                  <a:ext cx="27360" cy="51480"/>
                </a:xfrm>
                <a:custGeom>
                  <a:avLst/>
                  <a:gdLst/>
                  <a:ahLst/>
                  <a:rect l="l" t="t" r="r" b="b"/>
                  <a:pathLst>
                    <a:path w="120" h="210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120" y="22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828200" y="5571720"/>
                  <a:ext cx="82800" cy="108360"/>
                </a:xfrm>
                <a:custGeom>
                  <a:avLst/>
                  <a:gdLst/>
                  <a:ahLst/>
                  <a:rect l="l" t="t" r="r" b="b"/>
                  <a:pathLst>
                    <a:path w="375" h="495">
                      <a:moveTo>
                        <a:pt x="375" y="495"/>
                      </a:moveTo>
                      <a:lnTo>
                        <a:pt x="323" y="495"/>
                      </a:lnTo>
                      <a:lnTo>
                        <a:pt x="0" y="0"/>
                      </a:lnTo>
                      <a:lnTo>
                        <a:pt x="360" y="0"/>
                      </a:lnTo>
                      <a:lnTo>
                        <a:pt x="375" y="495"/>
                      </a:lnTo>
                      <a:close/>
                    </a:path>
                  </a:pathLst>
                </a:cu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521400" y="5035680"/>
                <a:ext cx="585720" cy="593280"/>
                <a:chOff x="6521400" y="5035680"/>
                <a:chExt cx="585720" cy="593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573960" y="5035680"/>
                  <a:ext cx="479160" cy="441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23640" y="5093280"/>
                  <a:ext cx="379800" cy="31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1e797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6521400" y="5514480"/>
                  <a:ext cx="585720" cy="114480"/>
                  <a:chOff x="6521400" y="5514480"/>
                  <a:chExt cx="585720" cy="11448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521400" y="5610600"/>
                    <a:ext cx="5857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521400" y="5514480"/>
                    <a:ext cx="5857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6562440" y="5532840"/>
                    <a:ext cx="487800" cy="58680"/>
                    <a:chOff x="6562440" y="5532840"/>
                    <a:chExt cx="487800" cy="586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562440" y="5532840"/>
                      <a:ext cx="918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2000" y="5532840"/>
                      <a:ext cx="33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978240" y="5534640"/>
                      <a:ext cx="7200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Tool Library for All Use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579840" y="2259000"/>
            <a:ext cx="2185920" cy="1952640"/>
            <a:chOff x="3579840" y="2259000"/>
            <a:chExt cx="2185920" cy="1952640"/>
          </a:xfrm>
        </p:grpSpPr>
        <p:sp>
          <p:nvSpPr>
            <p:cNvPr id="255" name=""/>
            <p:cNvSpPr/>
            <p:nvPr/>
          </p:nvSpPr>
          <p:spPr>
            <a:xfrm>
              <a:off x="3579840" y="2259000"/>
              <a:ext cx="218592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ob Preparation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4686480" y="3157560"/>
              <a:ext cx="158400" cy="1054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403880" y="2792520"/>
              <a:ext cx="657000" cy="668160"/>
              <a:chOff x="4403880" y="2792520"/>
              <a:chExt cx="657000" cy="668160"/>
            </a:xfrm>
          </p:grpSpPr>
          <p:sp>
            <p:nvSpPr>
              <p:cNvPr id="258" name=""/>
              <p:cNvSpPr/>
              <p:nvPr/>
            </p:nvSpPr>
            <p:spPr>
              <a:xfrm>
                <a:off x="4462920" y="2792520"/>
                <a:ext cx="537120" cy="497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18720" y="2857680"/>
                <a:ext cx="425520" cy="356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4403880" y="3331080"/>
                <a:ext cx="657000" cy="129600"/>
                <a:chOff x="4403880" y="3331080"/>
                <a:chExt cx="657000" cy="1296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403880" y="3439800"/>
                  <a:ext cx="657000" cy="2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403880" y="3331080"/>
                  <a:ext cx="657000" cy="108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4449960" y="3351960"/>
                  <a:ext cx="547200" cy="66240"/>
                  <a:chOff x="4449960" y="3351960"/>
                  <a:chExt cx="547200" cy="662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449960" y="3351960"/>
                    <a:ext cx="102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539240" y="3351960"/>
                    <a:ext cx="37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916160" y="3354120"/>
                    <a:ext cx="810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  <p:grpSp>
        <p:nvGrpSpPr>
          <p:cNvPr id="267" name=""/>
          <p:cNvGrpSpPr/>
          <p:nvPr/>
        </p:nvGrpSpPr>
        <p:grpSpPr>
          <a:xfrm>
            <a:off x="3584520" y="4379760"/>
            <a:ext cx="2236680" cy="1965600"/>
            <a:chOff x="3584520" y="4379760"/>
            <a:chExt cx="2236680" cy="1965600"/>
          </a:xfrm>
        </p:grpSpPr>
        <p:sp>
          <p:nvSpPr>
            <p:cNvPr id="268" name=""/>
            <p:cNvSpPr/>
            <p:nvPr/>
          </p:nvSpPr>
          <p:spPr>
            <a:xfrm>
              <a:off x="3584520" y="590400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esetting 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206960" y="4379760"/>
              <a:ext cx="450720" cy="765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051440" y="4924440"/>
              <a:ext cx="936360" cy="822240"/>
              <a:chOff x="4051440" y="4924440"/>
              <a:chExt cx="936360" cy="822240"/>
            </a:xfrm>
          </p:grpSpPr>
          <p:sp>
            <p:nvSpPr>
              <p:cNvPr id="271" name=""/>
              <p:cNvSpPr/>
              <p:nvPr/>
            </p:nvSpPr>
            <p:spPr>
              <a:xfrm>
                <a:off x="4151880" y="5185080"/>
                <a:ext cx="74520" cy="33696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37080" y="4924440"/>
                <a:ext cx="68040" cy="330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5240" y="5438160"/>
                <a:ext cx="740520" cy="2574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5313960"/>
                <a:ext cx="808920" cy="124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70160" y="5005440"/>
                <a:ext cx="235800" cy="1908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13320" y="5254920"/>
                <a:ext cx="111240" cy="828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77560" y="5051520"/>
                <a:ext cx="146520" cy="2620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47280" y="5691240"/>
                <a:ext cx="687960" cy="5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99320" y="5030280"/>
                <a:ext cx="179640" cy="13716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1d8ff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981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51440" y="5193000"/>
                <a:ext cx="294120" cy="69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67280" y="5204160"/>
                <a:ext cx="263880" cy="410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6680" y="5148360"/>
                <a:ext cx="86040" cy="24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58040" y="5131080"/>
                <a:ext cx="118080" cy="50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18000" y="5075640"/>
                <a:ext cx="108360" cy="1080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25920" y="5083560"/>
                <a:ext cx="92520" cy="91800"/>
              </a:xfrm>
              <a:prstGeom prst="ellipse">
                <a:avLst/>
              </a:prstGeom>
              <a:gradFill rotWithShape="0">
                <a:gsLst>
                  <a:gs pos="0">
                    <a:srgbClr val="b1d8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923760" y="4255920"/>
            <a:ext cx="3829320" cy="2073600"/>
            <a:chOff x="923760" y="4255920"/>
            <a:chExt cx="3829320" cy="2073600"/>
          </a:xfrm>
        </p:grpSpPr>
        <p:sp>
          <p:nvSpPr>
            <p:cNvPr id="287" name=""/>
            <p:cNvSpPr/>
            <p:nvPr/>
          </p:nvSpPr>
          <p:spPr>
            <a:xfrm>
              <a:off x="923760" y="5888160"/>
              <a:ext cx="21862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nufacturing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41680" y="4255920"/>
              <a:ext cx="2111400" cy="1230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258920" y="4857840"/>
              <a:ext cx="1530000" cy="834840"/>
              <a:chOff x="1258920" y="4857840"/>
              <a:chExt cx="1530000" cy="8348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1900080" y="4857840"/>
                <a:ext cx="888840" cy="465120"/>
                <a:chOff x="1900080" y="4857840"/>
                <a:chExt cx="888840" cy="465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985400" y="4857840"/>
                  <a:ext cx="606960" cy="32940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985400" y="5183640"/>
                  <a:ext cx="607680" cy="105840"/>
                </a:xfrm>
                <a:prstGeom prst="rect">
                  <a:avLst/>
                </a:prstGeom>
                <a:solidFill>
                  <a:srgbClr val="0b27b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038320" y="4907160"/>
                  <a:ext cx="14292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204640" y="4907160"/>
                  <a:ext cx="14328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379600" y="4907160"/>
                  <a:ext cx="14292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01960" y="5289480"/>
                  <a:ext cx="591480" cy="334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3840" y="5135040"/>
                  <a:ext cx="541440" cy="52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50560" y="5150880"/>
                  <a:ext cx="48600" cy="18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124000" y="5150880"/>
                  <a:ext cx="48600" cy="18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197440" y="5150880"/>
                  <a:ext cx="48600" cy="18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266920" y="5150880"/>
                  <a:ext cx="48960" cy="18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377080" y="5142960"/>
                  <a:ext cx="20520" cy="190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405520" y="5142960"/>
                  <a:ext cx="20520" cy="190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454120" y="5142960"/>
                  <a:ext cx="20520" cy="190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487240" y="5142960"/>
                  <a:ext cx="20520" cy="190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900080" y="4910400"/>
                  <a:ext cx="85320" cy="29232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593440" y="4876560"/>
                  <a:ext cx="195480" cy="44604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2617560" y="4923720"/>
                  <a:ext cx="120600" cy="167760"/>
                  <a:chOff x="2617560" y="4923720"/>
                  <a:chExt cx="120600" cy="1677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2617560" y="4923720"/>
                    <a:ext cx="120600" cy="167760"/>
                  </a:xfrm>
                  <a:prstGeom prst="rect">
                    <a:avLst/>
                  </a:prstGeom>
                  <a:solidFill>
                    <a:srgbClr val="037dd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14a8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36280" y="4939200"/>
                    <a:ext cx="84240" cy="59400"/>
                  </a:xfrm>
                  <a:prstGeom prst="rect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5b799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635200" y="5004720"/>
                    <a:ext cx="84600" cy="5472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1e1e1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2262240" y="5256360"/>
                <a:ext cx="473040" cy="429840"/>
                <a:chOff x="2262240" y="5256360"/>
                <a:chExt cx="473040" cy="4298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304720" y="5256360"/>
                  <a:ext cx="387000" cy="320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4680" y="5298120"/>
                  <a:ext cx="30672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6969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2262240" y="5603040"/>
                  <a:ext cx="473040" cy="83160"/>
                  <a:chOff x="2262240" y="5603040"/>
                  <a:chExt cx="473040" cy="831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2262240" y="5672880"/>
                    <a:ext cx="4730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262240" y="5603040"/>
                    <a:ext cx="4730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2295360" y="5616360"/>
                    <a:ext cx="393840" cy="42840"/>
                    <a:chOff x="2295360" y="5616360"/>
                    <a:chExt cx="393840" cy="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2295360" y="5616360"/>
                      <a:ext cx="741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2359440" y="5616360"/>
                      <a:ext cx="271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630880" y="5617440"/>
                      <a:ext cx="5832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sp>
            <p:nvSpPr>
              <p:cNvPr id="322" name=""/>
              <p:cNvSpPr/>
              <p:nvPr/>
            </p:nvSpPr>
            <p:spPr>
              <a:xfrm>
                <a:off x="1725480" y="5546880"/>
                <a:ext cx="460440" cy="14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99"/>
                    </a:solidFill>
                    <a:latin typeface="Arial"/>
                  </a:rPr>
                  <a:t>DNC</a:t>
                </a:r>
                <a:endParaRPr b="0" lang="en-US" sz="1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1258920" y="5032440"/>
                <a:ext cx="903240" cy="485640"/>
                <a:chOff x="1258920" y="5032440"/>
                <a:chExt cx="903240" cy="4856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547640" y="5032440"/>
                  <a:ext cx="613440" cy="37476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37720" y="5032800"/>
                  <a:ext cx="270000" cy="375480"/>
                </a:xfrm>
                <a:prstGeom prst="rect">
                  <a:avLst/>
                </a:prstGeom>
                <a:solidFill>
                  <a:srgbClr val="0b27b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567800" y="5067360"/>
                  <a:ext cx="157680" cy="167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c0c0c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30040" y="5067000"/>
                  <a:ext cx="114840" cy="9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276560" y="5473440"/>
                  <a:ext cx="870120" cy="44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359720" y="5245560"/>
                  <a:ext cx="103680" cy="130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276560" y="5375880"/>
                  <a:ext cx="271080" cy="3276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1754280" y="5085360"/>
                  <a:ext cx="110160" cy="150840"/>
                  <a:chOff x="1754280" y="5085360"/>
                  <a:chExt cx="110160" cy="15084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1754280" y="5085360"/>
                    <a:ext cx="110160" cy="150840"/>
                  </a:xfrm>
                  <a:prstGeom prst="rect">
                    <a:avLst/>
                  </a:prstGeom>
                  <a:solidFill>
                    <a:srgbClr val="037dd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14a8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771200" y="5099400"/>
                    <a:ext cx="77040" cy="53640"/>
                  </a:xfrm>
                  <a:prstGeom prst="rect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5b799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1770480" y="5158440"/>
                    <a:ext cx="77400" cy="4932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1e1e1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1463760" y="5273640"/>
                  <a:ext cx="19080" cy="6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  <a:effectLst>
                  <a:outerShdw dist="17819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339920" y="5273640"/>
                  <a:ext cx="19080" cy="6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  <a:effectLst>
                  <a:outerShdw dist="17819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382400" y="5273640"/>
                  <a:ext cx="60120" cy="6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  <a:effectLst>
                  <a:outerShdw dist="17819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258920" y="5408640"/>
                  <a:ext cx="903240" cy="65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  <a:effectLst>
                  <a:outerShdw dist="17819" dir="2700000" blurRad="0" rotWithShape="0">
                    <a:srgbClr val="3c3c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4863960" y="2259000"/>
            <a:ext cx="3540240" cy="2387160"/>
            <a:chOff x="4863960" y="2259000"/>
            <a:chExt cx="3540240" cy="2387160"/>
          </a:xfrm>
        </p:grpSpPr>
        <p:sp>
          <p:nvSpPr>
            <p:cNvPr id="340" name=""/>
            <p:cNvSpPr/>
            <p:nvPr/>
          </p:nvSpPr>
          <p:spPr>
            <a:xfrm>
              <a:off x="6218280" y="2259000"/>
              <a:ext cx="218592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urchasing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863960" y="3214440"/>
              <a:ext cx="2152800" cy="1006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959520" y="3373200"/>
              <a:ext cx="909360" cy="1272960"/>
              <a:chOff x="6959520" y="3373200"/>
              <a:chExt cx="909360" cy="1272960"/>
            </a:xfrm>
          </p:grpSpPr>
          <p:sp>
            <p:nvSpPr>
              <p:cNvPr id="343" name=""/>
              <p:cNvSpPr/>
              <p:nvPr/>
            </p:nvSpPr>
            <p:spPr>
              <a:xfrm flipH="1" flipV="1">
                <a:off x="7108200" y="3373200"/>
                <a:ext cx="9720" cy="741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959520" y="3779640"/>
                <a:ext cx="349200" cy="498240"/>
                <a:chOff x="6959520" y="3779640"/>
                <a:chExt cx="349200" cy="4982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959520" y="3779640"/>
                  <a:ext cx="349200" cy="498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963840" y="3912840"/>
                  <a:ext cx="344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963840" y="4042080"/>
                  <a:ext cx="344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963840" y="4155480"/>
                  <a:ext cx="344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82000" y="4179960"/>
                  <a:ext cx="93240" cy="756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995160" y="4062240"/>
                  <a:ext cx="293760" cy="3528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995160" y="3806280"/>
                  <a:ext cx="86760" cy="35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995160" y="3928680"/>
                  <a:ext cx="37800" cy="8892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75160" y="3933000"/>
                  <a:ext cx="108720" cy="288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90480" y="4168800"/>
                  <a:ext cx="108720" cy="288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264440" y="3799440"/>
                  <a:ext cx="17640" cy="288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338960" y="3890880"/>
                <a:ext cx="263520" cy="263160"/>
                <a:chOff x="7338960" y="3890880"/>
                <a:chExt cx="263520" cy="2631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362360" y="3890880"/>
                  <a:ext cx="215640" cy="19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385040" y="3916440"/>
                  <a:ext cx="170640" cy="140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6969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7338960" y="4102920"/>
                  <a:ext cx="263520" cy="51120"/>
                  <a:chOff x="7338960" y="4102920"/>
                  <a:chExt cx="263520" cy="511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7338960" y="4145760"/>
                    <a:ext cx="2635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7338960" y="4102920"/>
                    <a:ext cx="263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7357320" y="4111200"/>
                    <a:ext cx="219600" cy="26280"/>
                    <a:chOff x="7357320" y="4111200"/>
                    <a:chExt cx="219600" cy="262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7357320" y="4111200"/>
                      <a:ext cx="4140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7392960" y="4111200"/>
                      <a:ext cx="151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7544520" y="4111920"/>
                      <a:ext cx="3240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7467480" y="4041720"/>
                <a:ext cx="401400" cy="401400"/>
                <a:chOff x="7467480" y="4041720"/>
                <a:chExt cx="401400" cy="401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503480" y="4041720"/>
                  <a:ext cx="328320" cy="2988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537680" y="4080600"/>
                  <a:ext cx="260280" cy="214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6969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7467480" y="4365360"/>
                  <a:ext cx="401400" cy="77760"/>
                  <a:chOff x="7467480" y="4365360"/>
                  <a:chExt cx="401400" cy="7776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7467480" y="4430520"/>
                    <a:ext cx="401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467480" y="4365360"/>
                    <a:ext cx="4014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7495560" y="4377960"/>
                    <a:ext cx="334440" cy="39960"/>
                    <a:chOff x="7495560" y="4377960"/>
                    <a:chExt cx="334440" cy="399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7495560" y="4377960"/>
                      <a:ext cx="630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7549920" y="4377960"/>
                      <a:ext cx="2307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7780680" y="4379040"/>
                      <a:ext cx="493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sp>
            <p:nvSpPr>
              <p:cNvPr id="376" name=""/>
              <p:cNvSpPr/>
              <p:nvPr/>
            </p:nvSpPr>
            <p:spPr>
              <a:xfrm>
                <a:off x="6964200" y="4300560"/>
                <a:ext cx="50004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400" spc="-1" strike="noStrike">
                    <a:solidFill>
                      <a:srgbClr val="009999"/>
                    </a:solidFill>
                    <a:latin typeface="Arial"/>
                  </a:rPr>
                  <a:t>ERP</a:t>
                </a:r>
                <a:endParaRPr b="0" lang="en-US" sz="1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943680" y="2830680"/>
              <a:ext cx="590760" cy="601200"/>
              <a:chOff x="6943680" y="2830680"/>
              <a:chExt cx="590760" cy="601200"/>
            </a:xfrm>
          </p:grpSpPr>
          <p:sp>
            <p:nvSpPr>
              <p:cNvPr id="378" name=""/>
              <p:cNvSpPr/>
              <p:nvPr/>
            </p:nvSpPr>
            <p:spPr>
              <a:xfrm>
                <a:off x="6996960" y="2830680"/>
                <a:ext cx="483120" cy="448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047000" y="2889360"/>
                <a:ext cx="382680" cy="321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6943680" y="3315600"/>
                <a:ext cx="590760" cy="116280"/>
                <a:chOff x="6943680" y="3315600"/>
                <a:chExt cx="590760" cy="1162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943680" y="3413160"/>
                  <a:ext cx="590760" cy="18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943680" y="3315600"/>
                  <a:ext cx="590760" cy="97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6985080" y="3334320"/>
                  <a:ext cx="491760" cy="59760"/>
                  <a:chOff x="6985080" y="3334320"/>
                  <a:chExt cx="491760" cy="597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985080" y="3334320"/>
                    <a:ext cx="92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065360" y="3334320"/>
                    <a:ext cx="3394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404120" y="3336120"/>
                    <a:ext cx="72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  <p:grpSp>
        <p:nvGrpSpPr>
          <p:cNvPr id="387" name=""/>
          <p:cNvGrpSpPr/>
          <p:nvPr/>
        </p:nvGrpSpPr>
        <p:grpSpPr>
          <a:xfrm>
            <a:off x="939960" y="2260440"/>
            <a:ext cx="3870000" cy="2036520"/>
            <a:chOff x="939960" y="2260440"/>
            <a:chExt cx="3870000" cy="2036520"/>
          </a:xfrm>
        </p:grpSpPr>
        <p:sp>
          <p:nvSpPr>
            <p:cNvPr id="388" name=""/>
            <p:cNvSpPr/>
            <p:nvPr/>
          </p:nvSpPr>
          <p:spPr>
            <a:xfrm>
              <a:off x="939960" y="2260440"/>
              <a:ext cx="218592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C-Programming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2414520" y="3152520"/>
              <a:ext cx="2395440" cy="1144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346040" y="2806560"/>
              <a:ext cx="1203480" cy="1025280"/>
              <a:chOff x="1346040" y="2806560"/>
              <a:chExt cx="1203480" cy="102528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1928880" y="2806560"/>
                <a:ext cx="620640" cy="630000"/>
                <a:chOff x="1928880" y="2806560"/>
                <a:chExt cx="620640" cy="6300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985040" y="2806560"/>
                  <a:ext cx="507240" cy="4698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037600" y="2868120"/>
                  <a:ext cx="402120" cy="336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1e797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1928880" y="3314520"/>
                  <a:ext cx="620640" cy="122040"/>
                  <a:chOff x="1928880" y="3314520"/>
                  <a:chExt cx="620640" cy="1220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928880" y="3416760"/>
                    <a:ext cx="6206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928880" y="3314520"/>
                    <a:ext cx="620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1972440" y="3334320"/>
                    <a:ext cx="516960" cy="62640"/>
                    <a:chOff x="1972440" y="3334320"/>
                    <a:chExt cx="516960" cy="626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972440" y="3334320"/>
                      <a:ext cx="9756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056680" y="3334320"/>
                      <a:ext cx="35676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413080" y="3336120"/>
                      <a:ext cx="7632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pic>
            <p:nvPicPr>
              <p:cNvPr id="40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28960" y="2955960"/>
                <a:ext cx="409320" cy="106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2" name=""/>
              <p:cNvGrpSpPr/>
              <p:nvPr/>
            </p:nvGrpSpPr>
            <p:grpSpPr>
              <a:xfrm>
                <a:off x="1346040" y="2919240"/>
                <a:ext cx="898560" cy="912600"/>
                <a:chOff x="1346040" y="2919240"/>
                <a:chExt cx="898560" cy="9126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427400" y="2919240"/>
                  <a:ext cx="734400" cy="680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503360" y="3008160"/>
                  <a:ext cx="582120" cy="487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1e797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1346040" y="3655080"/>
                  <a:ext cx="898560" cy="176760"/>
                  <a:chOff x="1346040" y="3655080"/>
                  <a:chExt cx="898560" cy="1767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346040" y="3803400"/>
                    <a:ext cx="898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346040" y="3655080"/>
                    <a:ext cx="8985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1409040" y="3683520"/>
                    <a:ext cx="748080" cy="90720"/>
                    <a:chOff x="1409040" y="3683520"/>
                    <a:chExt cx="748080" cy="9072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1409040" y="3683520"/>
                      <a:ext cx="1411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1531080" y="3683520"/>
                      <a:ext cx="51624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2046600" y="3686400"/>
                      <a:ext cx="1105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pic>
            <p:nvPicPr>
              <p:cNvPr id="41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98680" y="3154320"/>
                <a:ext cx="585720" cy="1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3" name=""/>
          <p:cNvGrpSpPr/>
          <p:nvPr/>
        </p:nvGrpSpPr>
        <p:grpSpPr>
          <a:xfrm>
            <a:off x="4105440" y="3851280"/>
            <a:ext cx="1380960" cy="706320"/>
            <a:chOff x="4105440" y="3851280"/>
            <a:chExt cx="1380960" cy="706320"/>
          </a:xfrm>
        </p:grpSpPr>
        <p:sp>
          <p:nvSpPr>
            <p:cNvPr id="414" name=""/>
            <p:cNvSpPr/>
            <p:nvPr/>
          </p:nvSpPr>
          <p:spPr>
            <a:xfrm>
              <a:off x="4105440" y="3851280"/>
              <a:ext cx="1380960" cy="70632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4"/>
            <a:stretch/>
          </p:blipFill>
          <p:spPr>
            <a:xfrm>
              <a:off x="4249800" y="4049640"/>
              <a:ext cx="1131840" cy="39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1333440" y="2732040"/>
            <a:ext cx="1257480" cy="1027080"/>
            <a:chOff x="1333440" y="2732040"/>
            <a:chExt cx="1257480" cy="1027080"/>
          </a:xfrm>
        </p:grpSpPr>
        <p:sp>
          <p:nvSpPr>
            <p:cNvPr id="417" name=""/>
            <p:cNvSpPr/>
            <p:nvPr/>
          </p:nvSpPr>
          <p:spPr>
            <a:xfrm>
              <a:off x="1994040" y="327672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333440" y="2732040"/>
              <a:ext cx="1257480" cy="561960"/>
              <a:chOff x="1333440" y="2732040"/>
              <a:chExt cx="1257480" cy="561960"/>
            </a:xfrm>
          </p:grpSpPr>
          <p:sp>
            <p:nvSpPr>
              <p:cNvPr id="419" name=""/>
              <p:cNvSpPr/>
              <p:nvPr/>
            </p:nvSpPr>
            <p:spPr>
              <a:xfrm>
                <a:off x="1414440" y="273204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33440" y="292104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7064280" y="630252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476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cept of WT-ESPRIT-Interfa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507000" y="3887640"/>
            <a:ext cx="1814400" cy="917280"/>
            <a:chOff x="6507000" y="3887640"/>
            <a:chExt cx="1814400" cy="917280"/>
          </a:xfrm>
        </p:grpSpPr>
        <p:sp>
          <p:nvSpPr>
            <p:cNvPr id="424" name=""/>
            <p:cNvSpPr/>
            <p:nvPr/>
          </p:nvSpPr>
          <p:spPr>
            <a:xfrm>
              <a:off x="6507000" y="388764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6696360" y="414504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"/>
          <p:cNvGrpSpPr/>
          <p:nvPr/>
        </p:nvGrpSpPr>
        <p:grpSpPr>
          <a:xfrm>
            <a:off x="2579760" y="4405320"/>
            <a:ext cx="3938400" cy="441360"/>
            <a:chOff x="2579760" y="4405320"/>
            <a:chExt cx="3938400" cy="441360"/>
          </a:xfrm>
        </p:grpSpPr>
        <p:sp>
          <p:nvSpPr>
            <p:cNvPr id="427" name=""/>
            <p:cNvSpPr/>
            <p:nvPr/>
          </p:nvSpPr>
          <p:spPr>
            <a:xfrm flipH="1">
              <a:off x="2579760" y="461016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73280" y="440532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579760" y="3160800"/>
            <a:ext cx="5976720" cy="1164960"/>
            <a:chOff x="2579760" y="3160800"/>
            <a:chExt cx="5976720" cy="1164960"/>
          </a:xfrm>
        </p:grpSpPr>
        <p:sp>
          <p:nvSpPr>
            <p:cNvPr id="430" name=""/>
            <p:cNvSpPr/>
            <p:nvPr/>
          </p:nvSpPr>
          <p:spPr>
            <a:xfrm flipH="1">
              <a:off x="2579760" y="414180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79760" y="388476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19800" y="316080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 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954760" y="339552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42160" y="341460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241280" y="3713040"/>
            <a:ext cx="1476000" cy="1355040"/>
            <a:chOff x="1241280" y="3713040"/>
            <a:chExt cx="1476000" cy="1355040"/>
          </a:xfrm>
        </p:grpSpPr>
        <p:grpSp>
          <p:nvGrpSpPr>
            <p:cNvPr id="436" name=""/>
            <p:cNvGrpSpPr/>
            <p:nvPr/>
          </p:nvGrpSpPr>
          <p:grpSpPr>
            <a:xfrm>
              <a:off x="1241280" y="3713040"/>
              <a:ext cx="1476000" cy="1355040"/>
              <a:chOff x="1241280" y="3713040"/>
              <a:chExt cx="1476000" cy="1355040"/>
            </a:xfrm>
          </p:grpSpPr>
          <p:sp>
            <p:nvSpPr>
              <p:cNvPr id="437" name=""/>
              <p:cNvSpPr/>
              <p:nvPr/>
            </p:nvSpPr>
            <p:spPr>
              <a:xfrm>
                <a:off x="1374120" y="371304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99040" y="384480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1241280" y="4806000"/>
                <a:ext cx="1476000" cy="262080"/>
                <a:chOff x="1241280" y="4806000"/>
                <a:chExt cx="1476000" cy="2620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241280" y="502560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241280" y="480600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1344960" y="4848480"/>
                  <a:ext cx="1229040" cy="134280"/>
                  <a:chOff x="1344960" y="4848480"/>
                  <a:chExt cx="1229040" cy="1342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1344960" y="484848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545480" y="484848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392200" y="485280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>
              <a:off x="1492200" y="407340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7" name=""/>
          <p:cNvGrpSpPr/>
          <p:nvPr/>
        </p:nvGrpSpPr>
        <p:grpSpPr>
          <a:xfrm>
            <a:off x="3384720" y="4406760"/>
            <a:ext cx="2425680" cy="1511280"/>
            <a:chOff x="3384720" y="4406760"/>
            <a:chExt cx="2425680" cy="1511280"/>
          </a:xfrm>
        </p:grpSpPr>
        <p:sp>
          <p:nvSpPr>
            <p:cNvPr id="448" name=""/>
            <p:cNvSpPr/>
            <p:nvPr/>
          </p:nvSpPr>
          <p:spPr>
            <a:xfrm>
              <a:off x="3384720" y="490212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Used Tools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T-Numbers, D/H-Memory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3280" y="440676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365640" y="2787480"/>
            <a:ext cx="2425680" cy="1536840"/>
            <a:chOff x="3365640" y="2787480"/>
            <a:chExt cx="2425680" cy="1536840"/>
          </a:xfrm>
        </p:grpSpPr>
        <p:sp>
          <p:nvSpPr>
            <p:cNvPr id="451" name=""/>
            <p:cNvSpPr/>
            <p:nvPr/>
          </p:nvSpPr>
          <p:spPr>
            <a:xfrm>
              <a:off x="3365640" y="287028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Geometry Parameter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Cutting Values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3D Tools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73280" y="278748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the WT-ESPRIT-Interfa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414440" y="2039760"/>
            <a:ext cx="6251760" cy="4519800"/>
          </a:xfrm>
          <a:prstGeom prst="rect">
            <a:avLst/>
          </a:prstGeom>
          <a:ln w="0">
            <a:noFill/>
          </a:ln>
        </p:spPr>
      </p:pic>
      <p:grpSp>
        <p:nvGrpSpPr>
          <p:cNvPr id="456" name=""/>
          <p:cNvGrpSpPr/>
          <p:nvPr/>
        </p:nvGrpSpPr>
        <p:grpSpPr>
          <a:xfrm>
            <a:off x="2679840" y="2298600"/>
            <a:ext cx="4508280" cy="1320840"/>
            <a:chOff x="2679840" y="2298600"/>
            <a:chExt cx="4508280" cy="1320840"/>
          </a:xfrm>
        </p:grpSpPr>
        <p:sp>
          <p:nvSpPr>
            <p:cNvPr id="457" name=""/>
            <p:cNvSpPr/>
            <p:nvPr/>
          </p:nvSpPr>
          <p:spPr>
            <a:xfrm>
              <a:off x="2679840" y="2984400"/>
              <a:ext cx="2984400" cy="635040"/>
            </a:xfrm>
            <a:prstGeom prst="wedgeRoundRectCallout">
              <a:avLst>
                <a:gd name="adj1" fmla="val 84416"/>
                <a:gd name="adj2" fmla="val -112750"/>
                <a:gd name="adj3" fmla="val 16667"/>
              </a:avLst>
            </a:prstGeom>
            <a:solidFill>
              <a:srgbClr val="ffdd4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New Menu Buttons for </a:t>
              </a:r>
              <a:r>
                <a:rPr b="1" i="1" lang="en-US" sz="1600" spc="-1" strike="noStrike">
                  <a:solidFill>
                    <a:srgbClr val="333333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 GET and PUT</a:t>
              </a:r>
              <a:endParaRPr b="0" lang="en-US" sz="1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42000" y="2298600"/>
              <a:ext cx="546120" cy="355680"/>
            </a:xfrm>
            <a:prstGeom prst="ellipse">
              <a:avLst/>
            </a:prstGeom>
            <a:noFill/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870280" y="3251160"/>
            <a:ext cx="3073320" cy="609480"/>
          </a:xfrm>
          <a:prstGeom prst="wedgeRoundRectCallout">
            <a:avLst>
              <a:gd name="adj1" fmla="val 77634"/>
              <a:gd name="adj2" fmla="val -16744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GET activates the WinTool-Interface for Tool Import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414600" y="3305160"/>
            <a:ext cx="2124360" cy="1162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898800" y="4876920"/>
            <a:ext cx="3073680" cy="609480"/>
          </a:xfrm>
          <a:prstGeom prst="wedgeRoundRectCallout">
            <a:avLst>
              <a:gd name="adj1" fmla="val -32694"/>
              <a:gd name="adj2" fmla="val -121615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Menu Bar to import 1 Tool at the time … or Tool Lists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2" name=""/>
          <p:cNvSpPr/>
          <p:nvPr/>
        </p:nvSpPr>
        <p:spPr>
          <a:xfrm>
            <a:off x="4203720" y="5156280"/>
            <a:ext cx="3073320" cy="635040"/>
          </a:xfrm>
          <a:prstGeom prst="wedgeRoundRectCallout">
            <a:avLst>
              <a:gd name="adj1" fmla="val -63689"/>
              <a:gd name="adj2" fmla="val -18075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Tool Assembly” opens the Tool Search Window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the WT-ESPRIT-Interfa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414440" y="2039760"/>
            <a:ext cx="6251760" cy="45198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2463840" y="3517920"/>
            <a:ext cx="302904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1409760" y="2662200"/>
            <a:ext cx="4186080" cy="2295720"/>
            <a:chOff x="1409760" y="2662200"/>
            <a:chExt cx="4186080" cy="2295720"/>
          </a:xfrm>
        </p:grpSpPr>
        <p:pic>
          <p:nvPicPr>
            <p:cNvPr id="468" name="" descr=""/>
            <p:cNvPicPr/>
            <p:nvPr/>
          </p:nvPicPr>
          <p:blipFill>
            <a:blip r:embed="rId4"/>
            <a:stretch/>
          </p:blipFill>
          <p:spPr>
            <a:xfrm>
              <a:off x="4233960" y="2662200"/>
              <a:ext cx="136188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1409760" y="3886200"/>
              <a:ext cx="2324160" cy="609480"/>
            </a:xfrm>
            <a:prstGeom prst="wedgeRoundRectCallout">
              <a:avLst>
                <a:gd name="adj1" fmla="val 87087"/>
                <a:gd name="adj2" fmla="val -134115"/>
                <a:gd name="adj3" fmla="val 16667"/>
              </a:avLst>
            </a:prstGeom>
            <a:solidFill>
              <a:srgbClr val="ffdd4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Search by Tool Classification</a:t>
              </a:r>
              <a:endParaRPr b="0" lang="en-US" sz="1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715000" y="3683160"/>
            <a:ext cx="2502000" cy="609480"/>
          </a:xfrm>
          <a:prstGeom prst="wedgeRoundRectCallout">
            <a:avLst>
              <a:gd name="adj1" fmla="val -101333"/>
              <a:gd name="adj2" fmla="val 12630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lect Tool in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Tool Library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5740560" y="4140360"/>
            <a:ext cx="2476440" cy="647640"/>
          </a:xfrm>
          <a:prstGeom prst="wedgeRoundRectCallout">
            <a:avLst>
              <a:gd name="adj1" fmla="val -82370"/>
              <a:gd name="adj2" fmla="val 21200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Import Tool in 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ESPRIT CAM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3975120"/>
            <a:ext cx="2502000" cy="609480"/>
          </a:xfrm>
          <a:prstGeom prst="wedgeRoundRectCallout">
            <a:avLst>
              <a:gd name="adj1" fmla="val -93717"/>
              <a:gd name="adj2" fmla="val 161717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Check Geometry and Collision Points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414440" y="2039760"/>
            <a:ext cx="6251760" cy="45198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568680" y="4686480"/>
            <a:ext cx="2502000" cy="609480"/>
          </a:xfrm>
          <a:prstGeom prst="wedgeRoundRectCallout">
            <a:avLst>
              <a:gd name="adj1" fmla="val -80013"/>
              <a:gd name="adj2" fmla="val 19713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View WinTool Tools in 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ESPRIT CAM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1413000" y="2044800"/>
            <a:ext cx="6249960" cy="45068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231920" y="2489040"/>
            <a:ext cx="2057400" cy="1562400"/>
          </a:xfrm>
          <a:prstGeom prst="ellipse">
            <a:avLst/>
          </a:prstGeom>
          <a:noFill/>
          <a:ln w="38160">
            <a:solidFill>
              <a:srgbClr val="ffd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7" name=""/>
          <p:cNvSpPr/>
          <p:nvPr/>
        </p:nvSpPr>
        <p:spPr>
          <a:xfrm>
            <a:off x="3505320" y="3086280"/>
            <a:ext cx="2501640" cy="609480"/>
          </a:xfrm>
          <a:prstGeom prst="wedgeRoundRectCallout">
            <a:avLst>
              <a:gd name="adj1" fmla="val -85087"/>
              <a:gd name="adj2" fmla="val -17369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lect Operation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inTo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ssemblies in ESPRI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2376360" y="2368440"/>
            <a:ext cx="2610000" cy="26607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851360" y="4102200"/>
            <a:ext cx="2502000" cy="609480"/>
          </a:xfrm>
          <a:prstGeom prst="wedgeRoundRectCallout">
            <a:avLst>
              <a:gd name="adj1" fmla="val -62245"/>
              <a:gd name="adj2" fmla="val -16119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Example: 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“Pocketing”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1413000" y="2044800"/>
            <a:ext cx="6249960" cy="450684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inTo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ssemblies in ESPRI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73480" y="2603520"/>
            <a:ext cx="3684600" cy="3441600"/>
            <a:chOff x="3273480" y="2603520"/>
            <a:chExt cx="3684600" cy="3441600"/>
          </a:xfrm>
        </p:grpSpPr>
        <p:pic>
          <p:nvPicPr>
            <p:cNvPr id="486" name="" descr=""/>
            <p:cNvPicPr/>
            <p:nvPr/>
          </p:nvPicPr>
          <p:blipFill>
            <a:blip r:embed="rId3"/>
            <a:stretch/>
          </p:blipFill>
          <p:spPr>
            <a:xfrm>
              <a:off x="3273480" y="2603520"/>
              <a:ext cx="368460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3288600" y="2722320"/>
              <a:ext cx="404280" cy="27468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271680" y="2606760"/>
            <a:ext cx="3675240" cy="3438360"/>
            <a:chOff x="3271680" y="2606760"/>
            <a:chExt cx="3675240" cy="3438360"/>
          </a:xfrm>
        </p:grpSpPr>
        <p:pic>
          <p:nvPicPr>
            <p:cNvPr id="489" name="" descr=""/>
            <p:cNvPicPr/>
            <p:nvPr/>
          </p:nvPicPr>
          <p:blipFill>
            <a:blip r:embed="rId4"/>
            <a:stretch/>
          </p:blipFill>
          <p:spPr>
            <a:xfrm>
              <a:off x="3271680" y="2606760"/>
              <a:ext cx="367524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131000" y="2751120"/>
              <a:ext cx="448560" cy="22392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651640" y="4280040"/>
            <a:ext cx="1993680" cy="609480"/>
          </a:xfrm>
          <a:prstGeom prst="wedgeRoundRectCallout">
            <a:avLst>
              <a:gd name="adj1" fmla="val -74921"/>
              <a:gd name="adj2" fmla="val -2578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KB with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Cutting Data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5629320" y="4003560"/>
            <a:ext cx="2006640" cy="657360"/>
          </a:xfrm>
          <a:prstGeom prst="wedgeRoundRectCallout">
            <a:avLst>
              <a:gd name="adj1" fmla="val -72546"/>
              <a:gd name="adj2" fmla="val -15700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lect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Finishing Tool  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000680"/>
            <a:ext cx="1994040" cy="657000"/>
          </a:xfrm>
          <a:prstGeom prst="wedgeRoundRectCallout">
            <a:avLst>
              <a:gd name="adj1" fmla="val -73648"/>
              <a:gd name="adj2" fmla="val -126087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lect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Roughing Tool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414440" y="2049480"/>
            <a:ext cx="6248520" cy="450864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ification with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inTo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o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97" name=""/>
          <p:cNvSpPr/>
          <p:nvPr/>
        </p:nvSpPr>
        <p:spPr>
          <a:xfrm>
            <a:off x="3305160" y="3156120"/>
            <a:ext cx="1994040" cy="657000"/>
          </a:xfrm>
          <a:prstGeom prst="wedgeRoundRectCallout">
            <a:avLst>
              <a:gd name="adj1" fmla="val 62023"/>
              <a:gd name="adj2" fmla="val -151208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Verify the Operation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1420920" y="2041560"/>
            <a:ext cx="6238800" cy="45165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378160" y="3568680"/>
            <a:ext cx="1993680" cy="657360"/>
          </a:xfrm>
          <a:prstGeom prst="wedgeRoundRectCallout">
            <a:avLst>
              <a:gd name="adj1" fmla="val 96097"/>
              <a:gd name="adj2" fmla="val -3478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3D Tool Model from WinTool DB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1414440" y="2044800"/>
            <a:ext cx="6243840" cy="45068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2593800" y="3422520"/>
            <a:ext cx="1994040" cy="657360"/>
          </a:xfrm>
          <a:prstGeom prst="wedgeRoundRectCallout">
            <a:avLst>
              <a:gd name="adj1" fmla="val 22055"/>
              <a:gd name="adj2" fmla="val 23188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Collision Detected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041640" y="2976480"/>
            <a:ext cx="2874960" cy="2476440"/>
            <a:chOff x="3041640" y="2976480"/>
            <a:chExt cx="2874960" cy="2476440"/>
          </a:xfrm>
        </p:grpSpPr>
        <p:pic>
          <p:nvPicPr>
            <p:cNvPr id="503" name="" descr=""/>
            <p:cNvPicPr/>
            <p:nvPr/>
          </p:nvPicPr>
          <p:blipFill>
            <a:blip r:embed="rId5"/>
            <a:stretch/>
          </p:blipFill>
          <p:spPr>
            <a:xfrm>
              <a:off x="3041640" y="2976480"/>
              <a:ext cx="287496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053520" y="3062160"/>
              <a:ext cx="315360" cy="19764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5619600" y="3714840"/>
            <a:ext cx="2517840" cy="657000"/>
          </a:xfrm>
          <a:prstGeom prst="wedgeRoundRectCallout">
            <a:avLst>
              <a:gd name="adj1" fmla="val -89787"/>
              <a:gd name="adj2" fmla="val -6231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lect better suited Tool or …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6" name=""/>
          <p:cNvSpPr/>
          <p:nvPr/>
        </p:nvSpPr>
        <p:spPr>
          <a:xfrm>
            <a:off x="5619600" y="3714840"/>
            <a:ext cx="2527560" cy="657000"/>
          </a:xfrm>
          <a:prstGeom prst="wedgeRoundRectCallout">
            <a:avLst>
              <a:gd name="adj1" fmla="val -2574"/>
              <a:gd name="adj2" fmla="val -236231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Import another Tool from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07:24:31Z</dcterms:created>
  <dc:creator>MH</dc:creator>
  <dc:description/>
  <dc:language>en-US</dc:language>
  <cp:lastModifiedBy>Marc Holthuizen</cp:lastModifiedBy>
  <dcterms:modified xsi:type="dcterms:W3CDTF">2007-07-03T08:03:43Z</dcterms:modified>
  <cp:revision>324</cp:revision>
  <dc:subject/>
  <dc:title>PowerPoint-Präsentation</dc:title>
</cp:coreProperties>
</file>