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676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52360" y="11192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12240" y="476280"/>
            <a:ext cx="734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2680" y="184320"/>
            <a:ext cx="46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stablishing the framework for higher efficiency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201080" y="189000"/>
            <a:ext cx="2079360" cy="734760"/>
            <a:chOff x="7201080" y="189000"/>
            <a:chExt cx="2079360" cy="734760"/>
          </a:xfrm>
        </p:grpSpPr>
        <p:pic>
          <p:nvPicPr>
            <p:cNvPr id="6" name="" descr=""/>
            <p:cNvPicPr/>
            <p:nvPr/>
          </p:nvPicPr>
          <p:blipFill>
            <a:blip r:embed="rId4"/>
            <a:stretch/>
          </p:blipFill>
          <p:spPr>
            <a:xfrm>
              <a:off x="7201080" y="189000"/>
              <a:ext cx="2079360" cy="73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445520" y="253800"/>
              <a:ext cx="17431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7277040" y="252000"/>
              <a:ext cx="34200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7277040" y="602640"/>
              <a:ext cx="329760" cy="25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277040" y="377640"/>
              <a:ext cx="0" cy="380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440480" y="860040"/>
              <a:ext cx="1748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5"/>
          <a:stretch/>
        </p:blipFill>
        <p:spPr>
          <a:xfrm>
            <a:off x="216000" y="584280"/>
            <a:ext cx="13316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47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105264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sting your CAM Workfl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71640" y="2441520"/>
            <a:ext cx="6791400" cy="3327480"/>
            <a:chOff x="971640" y="2441520"/>
            <a:chExt cx="6791400" cy="3327480"/>
          </a:xfrm>
        </p:grpSpPr>
        <p:sp>
          <p:nvSpPr>
            <p:cNvPr id="51" name=""/>
            <p:cNvSpPr/>
            <p:nvPr/>
          </p:nvSpPr>
          <p:spPr>
            <a:xfrm>
              <a:off x="971640" y="2441520"/>
              <a:ext cx="6791400" cy="332748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67058"/>
                  </a:srgbClr>
                </a:gs>
                <a:gs pos="100000">
                  <a:srgbClr val="0064f8">
                    <a:alpha val="30196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384560" y="3476160"/>
              <a:ext cx="1681200" cy="12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>
              <a:lum bright="16000"/>
            </a:blip>
            <a:stretch/>
          </p:blipFill>
          <p:spPr>
            <a:xfrm>
              <a:off x="3228480" y="2685960"/>
              <a:ext cx="152388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3433680" y="3900960"/>
              <a:ext cx="1461240" cy="9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5219640" y="4494240"/>
              <a:ext cx="85500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6566040" y="3510720"/>
              <a:ext cx="84708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5004000" y="3173040"/>
              <a:ext cx="147060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8"/>
            <a:stretch/>
          </p:blipFill>
          <p:spPr>
            <a:xfrm>
              <a:off x="3117240" y="4900680"/>
              <a:ext cx="1458720" cy="74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3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44560" y="1833480"/>
            <a:ext cx="7435800" cy="4656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44560" y="1833480"/>
            <a:ext cx="7435800" cy="465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1052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ad Assembly from datab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816280"/>
            <a:ext cx="2305080" cy="466560"/>
          </a:xfrm>
          <a:prstGeom prst="wedgeRoundRectCallout">
            <a:avLst>
              <a:gd name="adj1" fmla="val 19351"/>
              <a:gd name="adj2" fmla="val -191157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Run simula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44560" y="1844640"/>
            <a:ext cx="7435800" cy="4648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4360" y="1052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ad Assembly from datab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2673360"/>
            <a:ext cx="3024000" cy="609480"/>
          </a:xfrm>
          <a:prstGeom prst="wedgeRoundRectCallout">
            <a:avLst>
              <a:gd name="adj1" fmla="val 82652"/>
              <a:gd name="adj2" fmla="val 7109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True holder geometry is automatically generat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105264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sting your CAM Workfl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6000" y="188136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nToo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ibra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16000" y="234936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 workfl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16000" y="281772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ad Assembl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16000" y="328608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Documen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16000" y="375444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Interface Concep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422100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STL Position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 advTm="3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436160" cy="4648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4360" y="1052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ol Document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3640" y="2384280"/>
            <a:ext cx="1728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3280" y="2384280"/>
            <a:ext cx="2736720" cy="719280"/>
          </a:xfrm>
          <a:prstGeom prst="wedgeRoundRectCallout">
            <a:avLst>
              <a:gd name="adj1" fmla="val -58643"/>
              <a:gd name="adj2" fmla="val 1887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List of tools used for error-free simula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436160" cy="4648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4360" y="1052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ol Document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63640" y="2384280"/>
            <a:ext cx="1728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5445000"/>
            <a:ext cx="2736720" cy="719280"/>
          </a:xfrm>
          <a:prstGeom prst="wedgeRoundRectCallout">
            <a:avLst>
              <a:gd name="adj1" fmla="val 12819"/>
              <a:gd name="adj2" fmla="val -104967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NC-Program Header will be transferred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51280" y="1916280"/>
            <a:ext cx="3282840" cy="1341360"/>
            <a:chOff x="2951280" y="1916280"/>
            <a:chExt cx="3282840" cy="1341360"/>
          </a:xfrm>
        </p:grpSpPr>
        <p:sp>
          <p:nvSpPr>
            <p:cNvPr id="162" name=""/>
            <p:cNvSpPr/>
            <p:nvPr/>
          </p:nvSpPr>
          <p:spPr>
            <a:xfrm>
              <a:off x="5688000" y="1916280"/>
              <a:ext cx="546120" cy="355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51280" y="2600640"/>
              <a:ext cx="2527200" cy="657000"/>
            </a:xfrm>
            <a:prstGeom prst="wedgeRoundRectCallout">
              <a:avLst>
                <a:gd name="adj1" fmla="val 70416"/>
                <a:gd name="adj2" fmla="val -121981"/>
                <a:gd name="adj3" fmla="val 16667"/>
              </a:avLst>
            </a:prstGeom>
            <a:solidFill>
              <a:srgbClr val="ffdd4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Save List of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Tools used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32360" y="1736640"/>
            <a:ext cx="3184560" cy="4506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4360" y="1052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ol Document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16000" y="6308640"/>
            <a:ext cx="5185080" cy="466920"/>
          </a:xfrm>
          <a:prstGeom prst="wedgeRoundRectCallout">
            <a:avLst>
              <a:gd name="adj1" fmla="val -2601"/>
              <a:gd name="adj2" fmla="val -337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rint concise documentation in desired format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934920" y="1736640"/>
            <a:ext cx="317844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4360" y="105264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sting your CAM Workfl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16000" y="188136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nToo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ibra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6000" y="234936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 workfl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16000" y="281772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ad Assembl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16000" y="328608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16000" y="375444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Interface Concep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16000" y="422100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STL Position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333440" y="2732040"/>
            <a:ext cx="1257480" cy="1027080"/>
            <a:chOff x="1333440" y="2732040"/>
            <a:chExt cx="1257480" cy="1027080"/>
          </a:xfrm>
        </p:grpSpPr>
        <p:sp>
          <p:nvSpPr>
            <p:cNvPr id="176" name=""/>
            <p:cNvSpPr/>
            <p:nvPr/>
          </p:nvSpPr>
          <p:spPr>
            <a:xfrm>
              <a:off x="1994040" y="3276720"/>
              <a:ext cx="0" cy="48240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333440" y="2732040"/>
              <a:ext cx="1257480" cy="561960"/>
              <a:chOff x="1333440" y="2732040"/>
              <a:chExt cx="1257480" cy="561960"/>
            </a:xfrm>
          </p:grpSpPr>
          <p:sp>
            <p:nvSpPr>
              <p:cNvPr id="178" name=""/>
              <p:cNvSpPr/>
              <p:nvPr/>
            </p:nvSpPr>
            <p:spPr>
              <a:xfrm>
                <a:off x="1414440" y="2732040"/>
                <a:ext cx="1100160" cy="561960"/>
              </a:xfrm>
              <a:prstGeom prst="can">
                <a:avLst>
                  <a:gd name="adj" fmla="val 18916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33440" y="2921040"/>
                <a:ext cx="125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200" spc="-1" strike="noStrike">
                    <a:solidFill>
                      <a:srgbClr val="ffffff"/>
                    </a:solidFill>
                    <a:latin typeface="Arial"/>
                  </a:rPr>
                  <a:t>ESPRIT KB</a:t>
                </a:r>
                <a:endParaRPr b="0" lang="en-US" sz="12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6507000" y="3887640"/>
            <a:ext cx="1814400" cy="917280"/>
            <a:chOff x="6507000" y="3887640"/>
            <a:chExt cx="1814400" cy="917280"/>
          </a:xfrm>
        </p:grpSpPr>
        <p:sp>
          <p:nvSpPr>
            <p:cNvPr id="181" name=""/>
            <p:cNvSpPr/>
            <p:nvPr/>
          </p:nvSpPr>
          <p:spPr>
            <a:xfrm>
              <a:off x="6507000" y="3887640"/>
              <a:ext cx="181440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696360" y="4145040"/>
              <a:ext cx="148716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2592360" y="4400640"/>
            <a:ext cx="3938400" cy="441360"/>
            <a:chOff x="2592360" y="4400640"/>
            <a:chExt cx="3938400" cy="441360"/>
          </a:xfrm>
        </p:grpSpPr>
        <p:sp>
          <p:nvSpPr>
            <p:cNvPr id="184" name=""/>
            <p:cNvSpPr/>
            <p:nvPr/>
          </p:nvSpPr>
          <p:spPr>
            <a:xfrm flipH="1">
              <a:off x="2592360" y="4605480"/>
              <a:ext cx="39384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85880" y="440064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579760" y="3160800"/>
            <a:ext cx="5976720" cy="1164960"/>
            <a:chOff x="2579760" y="3160800"/>
            <a:chExt cx="5976720" cy="1164960"/>
          </a:xfrm>
        </p:grpSpPr>
        <p:sp>
          <p:nvSpPr>
            <p:cNvPr id="187" name=""/>
            <p:cNvSpPr/>
            <p:nvPr/>
          </p:nvSpPr>
          <p:spPr>
            <a:xfrm flipH="1">
              <a:off x="2579760" y="4141800"/>
              <a:ext cx="391464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79760" y="3884760"/>
              <a:ext cx="223380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16080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954760" y="3395520"/>
              <a:ext cx="0" cy="73368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2160" y="3414600"/>
              <a:ext cx="3762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224000" y="3716280"/>
            <a:ext cx="1476000" cy="1355040"/>
            <a:chOff x="1224000" y="3716280"/>
            <a:chExt cx="1476000" cy="1355040"/>
          </a:xfrm>
        </p:grpSpPr>
        <p:grpSp>
          <p:nvGrpSpPr>
            <p:cNvPr id="193" name=""/>
            <p:cNvGrpSpPr/>
            <p:nvPr/>
          </p:nvGrpSpPr>
          <p:grpSpPr>
            <a:xfrm>
              <a:off x="1224000" y="3716280"/>
              <a:ext cx="1476000" cy="1355040"/>
              <a:chOff x="1224000" y="3716280"/>
              <a:chExt cx="1476000" cy="1355040"/>
            </a:xfrm>
          </p:grpSpPr>
          <p:sp>
            <p:nvSpPr>
              <p:cNvPr id="194" name=""/>
              <p:cNvSpPr/>
              <p:nvPr/>
            </p:nvSpPr>
            <p:spPr>
              <a:xfrm>
                <a:off x="1356840" y="371628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81760" y="384804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1224000" y="4809240"/>
                <a:ext cx="1476000" cy="262080"/>
                <a:chOff x="1224000" y="4809240"/>
                <a:chExt cx="1476000" cy="262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24000" y="502884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24000" y="480924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1327680" y="4851720"/>
                  <a:ext cx="1229040" cy="134280"/>
                  <a:chOff x="1327680" y="4851720"/>
                  <a:chExt cx="1229040" cy="1342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327680" y="485172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528200" y="485172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374920" y="485604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1474920" y="407664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3384720" y="4406760"/>
            <a:ext cx="2425680" cy="1511280"/>
            <a:chOff x="3384720" y="4406760"/>
            <a:chExt cx="2425680" cy="1511280"/>
          </a:xfrm>
        </p:grpSpPr>
        <p:sp>
          <p:nvSpPr>
            <p:cNvPr id="205" name=""/>
            <p:cNvSpPr/>
            <p:nvPr/>
          </p:nvSpPr>
          <p:spPr>
            <a:xfrm>
              <a:off x="3384720" y="490212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C-Program Info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sed Tool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-Numbers, D/H-Memory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73280" y="4406760"/>
              <a:ext cx="2235240" cy="151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365640" y="2787480"/>
            <a:ext cx="2425680" cy="1536840"/>
            <a:chOff x="3365640" y="2787480"/>
            <a:chExt cx="2425680" cy="1536840"/>
          </a:xfrm>
        </p:grpSpPr>
        <p:sp>
          <p:nvSpPr>
            <p:cNvPr id="208" name=""/>
            <p:cNvSpPr/>
            <p:nvPr/>
          </p:nvSpPr>
          <p:spPr>
            <a:xfrm>
              <a:off x="3365640" y="287028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eometry Parameter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utting Value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3D Tools, *.etl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les</a:t>
              </a: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73280" y="2787480"/>
              <a:ext cx="2235240" cy="153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26920" y="4714200"/>
            <a:ext cx="2237040" cy="1213560"/>
            <a:chOff x="826920" y="4714200"/>
            <a:chExt cx="2237040" cy="1213560"/>
          </a:xfrm>
        </p:grpSpPr>
        <p:sp>
          <p:nvSpPr>
            <p:cNvPr id="211" name=""/>
            <p:cNvSpPr/>
            <p:nvPr/>
          </p:nvSpPr>
          <p:spPr>
            <a:xfrm flipV="1">
              <a:off x="1547640" y="4713840"/>
              <a:ext cx="76176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" y="11114"/>
                  </a:moveTo>
                  <a:arcTo wR="10800" hR="10800" stAng="10700098" swAng="10899902"/>
                  <a:lnTo>
                    <a:pt x="10800" y="10800"/>
                  </a:lnTo>
                  <a:close/>
                </a:path>
                <a:path fill="none" w="21600" h="21600">
                  <a:moveTo>
                    <a:pt x="5" y="11114"/>
                  </a:moveTo>
                  <a:arcTo wR="10800" hR="10800" stAng="10700098" swAng="10899902"/>
                </a:path>
              </a:pathLst>
            </a:custGeom>
            <a:noFill/>
            <a:ln w="38160">
              <a:solidFill>
                <a:srgbClr val="00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6920" y="548640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L adjustmen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84360" y="105264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cept of WT-ESPRIT-Interfa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292720" y="4581360"/>
            <a:ext cx="3462480" cy="2090880"/>
            <a:chOff x="5292720" y="4581360"/>
            <a:chExt cx="3462480" cy="2090880"/>
          </a:xfrm>
        </p:grpSpPr>
        <p:grpSp>
          <p:nvGrpSpPr>
            <p:cNvPr id="215" name=""/>
            <p:cNvGrpSpPr/>
            <p:nvPr/>
          </p:nvGrpSpPr>
          <p:grpSpPr>
            <a:xfrm>
              <a:off x="7632720" y="4581360"/>
              <a:ext cx="1122480" cy="2090880"/>
              <a:chOff x="7632720" y="4581360"/>
              <a:chExt cx="1122480" cy="20908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2720" y="5084640"/>
                <a:ext cx="1122480" cy="158760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17" name=""/>
              <p:cNvGrpSpPr/>
              <p:nvPr/>
            </p:nvGrpSpPr>
            <p:grpSpPr>
              <a:xfrm>
                <a:off x="8316720" y="4581360"/>
                <a:ext cx="277560" cy="503280"/>
                <a:chOff x="8316720" y="4581360"/>
                <a:chExt cx="277560" cy="50328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8585280" y="4581360"/>
                  <a:ext cx="0" cy="50328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8316720" y="4596120"/>
                  <a:ext cx="277560" cy="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5292720" y="620064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tup Documents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05264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atures for Rotating Too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38120" y="2292480"/>
            <a:ext cx="4124520" cy="2806560"/>
            <a:chOff x="438120" y="2292480"/>
            <a:chExt cx="4124520" cy="2806560"/>
          </a:xfrm>
        </p:grpSpPr>
        <p:sp>
          <p:nvSpPr>
            <p:cNvPr id="223" name=""/>
            <p:cNvSpPr/>
            <p:nvPr/>
          </p:nvSpPr>
          <p:spPr>
            <a:xfrm>
              <a:off x="457200" y="4730760"/>
              <a:ext cx="39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ffffff"/>
                  </a:solidFill>
                  <a:latin typeface="Arial"/>
                </a:rPr>
                <a:t>WinTool Professional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8120" y="2292480"/>
              <a:ext cx="4124520" cy="2771640"/>
            </a:xfrm>
            <a:prstGeom prst="rect">
              <a:avLst/>
            </a:prstGeom>
            <a:noFill/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619520" y="2292480"/>
            <a:ext cx="4172040" cy="2793600"/>
            <a:chOff x="4619520" y="2292480"/>
            <a:chExt cx="4172040" cy="2793600"/>
          </a:xfrm>
        </p:grpSpPr>
        <p:sp>
          <p:nvSpPr>
            <p:cNvPr id="226" name=""/>
            <p:cNvSpPr/>
            <p:nvPr/>
          </p:nvSpPr>
          <p:spPr>
            <a:xfrm>
              <a:off x="4619520" y="2292480"/>
              <a:ext cx="4172040" cy="27712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73520" y="4717800"/>
              <a:ext cx="39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ffffff"/>
                  </a:solidFill>
                  <a:latin typeface="Arial"/>
                </a:rPr>
                <a:t>WinTool-ESPRIT-Interface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42880" y="2381400"/>
            <a:ext cx="1876320" cy="2181240"/>
            <a:chOff x="542880" y="2381400"/>
            <a:chExt cx="1876320" cy="2181240"/>
          </a:xfrm>
        </p:grpSpPr>
        <p:sp>
          <p:nvSpPr>
            <p:cNvPr id="229" name=""/>
            <p:cNvSpPr/>
            <p:nvPr/>
          </p:nvSpPr>
          <p:spPr>
            <a:xfrm>
              <a:off x="545760" y="2381400"/>
              <a:ext cx="1868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542880" y="2820960"/>
              <a:ext cx="1876320" cy="1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49000" y="4135680"/>
              <a:ext cx="186660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DXF-Generator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231640" y="2384280"/>
            <a:ext cx="2278440" cy="2322360"/>
            <a:chOff x="2231640" y="2384280"/>
            <a:chExt cx="2278440" cy="2322360"/>
          </a:xfrm>
        </p:grpSpPr>
        <p:grpSp>
          <p:nvGrpSpPr>
            <p:cNvPr id="233" name=""/>
            <p:cNvGrpSpPr/>
            <p:nvPr/>
          </p:nvGrpSpPr>
          <p:grpSpPr>
            <a:xfrm>
              <a:off x="2231640" y="4549320"/>
              <a:ext cx="509400" cy="157320"/>
              <a:chOff x="2231640" y="4549320"/>
              <a:chExt cx="509400" cy="15732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2736720" y="4549320"/>
                <a:ext cx="0" cy="1526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231640" y="470016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233440" y="4559040"/>
                <a:ext cx="0" cy="14760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531880" y="2384280"/>
              <a:ext cx="1978200" cy="2180520"/>
              <a:chOff x="2531880" y="2384280"/>
              <a:chExt cx="1978200" cy="2180520"/>
            </a:xfrm>
          </p:grpSpPr>
          <p:sp>
            <p:nvSpPr>
              <p:cNvPr id="238" name=""/>
              <p:cNvSpPr/>
              <p:nvPr/>
            </p:nvSpPr>
            <p:spPr>
              <a:xfrm>
                <a:off x="2533680" y="2384280"/>
                <a:ext cx="1976400" cy="4410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ssembly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pic>
            <p:nvPicPr>
              <p:cNvPr id="2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1880" y="2825280"/>
                <a:ext cx="1974960" cy="13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2536920" y="4137840"/>
                <a:ext cx="1966680" cy="42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earch Matching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4333680" y="2384280"/>
            <a:ext cx="2335320" cy="2325600"/>
            <a:chOff x="4333680" y="2384280"/>
            <a:chExt cx="2335320" cy="2325600"/>
          </a:xfrm>
        </p:grpSpPr>
        <p:grpSp>
          <p:nvGrpSpPr>
            <p:cNvPr id="242" name=""/>
            <p:cNvGrpSpPr/>
            <p:nvPr/>
          </p:nvGrpSpPr>
          <p:grpSpPr>
            <a:xfrm>
              <a:off x="4673520" y="2384280"/>
              <a:ext cx="1995480" cy="2185920"/>
              <a:chOff x="4673520" y="2384280"/>
              <a:chExt cx="1995480" cy="2185920"/>
            </a:xfrm>
          </p:grpSpPr>
          <p:sp>
            <p:nvSpPr>
              <p:cNvPr id="243" name=""/>
              <p:cNvSpPr/>
              <p:nvPr/>
            </p:nvSpPr>
            <p:spPr>
              <a:xfrm>
                <a:off x="4673520" y="2384280"/>
                <a:ext cx="1995480" cy="4413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XF-Contour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pic>
            <p:nvPicPr>
              <p:cNvPr id="24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75320" y="2825640"/>
                <a:ext cx="1990800" cy="131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4680000" y="4128840"/>
                <a:ext cx="1981080" cy="44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400" spc="-1" strike="noStrike">
                    <a:solidFill>
                      <a:srgbClr val="ffffff"/>
                    </a:solidFill>
                    <a:latin typeface="Arial"/>
                  </a:rPr>
                  <a:t>Shape-Generator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333680" y="4552560"/>
              <a:ext cx="509400" cy="157320"/>
              <a:chOff x="4333680" y="4552560"/>
              <a:chExt cx="509400" cy="15732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4838760" y="4552560"/>
                <a:ext cx="0" cy="1526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333680" y="470340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335480" y="4562280"/>
                <a:ext cx="0" cy="14760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457680" y="2387520"/>
            <a:ext cx="2256120" cy="2331360"/>
            <a:chOff x="6457680" y="2387520"/>
            <a:chExt cx="2256120" cy="2331360"/>
          </a:xfrm>
        </p:grpSpPr>
        <p:grpSp>
          <p:nvGrpSpPr>
            <p:cNvPr id="251" name=""/>
            <p:cNvGrpSpPr/>
            <p:nvPr/>
          </p:nvGrpSpPr>
          <p:grpSpPr>
            <a:xfrm>
              <a:off x="6778800" y="2387520"/>
              <a:ext cx="1935000" cy="2179800"/>
              <a:chOff x="6778800" y="2387520"/>
              <a:chExt cx="1935000" cy="2179800"/>
            </a:xfrm>
          </p:grpSpPr>
          <p:sp>
            <p:nvSpPr>
              <p:cNvPr id="252" name=""/>
              <p:cNvSpPr/>
              <p:nvPr/>
            </p:nvSpPr>
            <p:spPr>
              <a:xfrm>
                <a:off x="6782040" y="2387520"/>
                <a:ext cx="1931760" cy="4413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D Model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78800" y="2824200"/>
                <a:ext cx="1930320" cy="1743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4" name=""/>
            <p:cNvGrpSpPr/>
            <p:nvPr/>
          </p:nvGrpSpPr>
          <p:grpSpPr>
            <a:xfrm>
              <a:off x="6457680" y="4562280"/>
              <a:ext cx="509400" cy="156600"/>
              <a:chOff x="6457680" y="4562280"/>
              <a:chExt cx="509400" cy="1566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6962760" y="4562280"/>
                <a:ext cx="0" cy="15228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457680" y="4713120"/>
                <a:ext cx="50940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459480" y="4571640"/>
                <a:ext cx="0" cy="1472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2916360" y="6093000"/>
            <a:ext cx="2412720" cy="568080"/>
          </a:xfrm>
          <a:prstGeom prst="wedgeRoundRectCallout">
            <a:avLst>
              <a:gd name="adj1" fmla="val -8550"/>
              <a:gd name="adj2" fmla="val -328490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Graphic Assembly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built with Componen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5445000"/>
            <a:ext cx="1944720" cy="568440"/>
          </a:xfrm>
          <a:prstGeom prst="wedgeRoundRectCallout">
            <a:avLst>
              <a:gd name="adj1" fmla="val -11550"/>
              <a:gd name="adj2" fmla="val -210055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Tool-Drawing-Generato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5373720"/>
            <a:ext cx="2251080" cy="568440"/>
          </a:xfrm>
          <a:prstGeom prst="wedgeRoundRectCallout">
            <a:avLst>
              <a:gd name="adj1" fmla="val -18615"/>
              <a:gd name="adj2" fmla="val -201953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utomatic Calculation of Contou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84720" y="6058080"/>
            <a:ext cx="2664000" cy="568080"/>
          </a:xfrm>
          <a:prstGeom prst="wedgeRoundRectCallout">
            <a:avLst>
              <a:gd name="adj1" fmla="val 37842"/>
              <a:gd name="adj2" fmla="val -317037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utomatic 3D Model 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with Cut/Non-Cut Layer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4360" y="105264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atures for Turning Too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50720" y="2292480"/>
            <a:ext cx="6257520" cy="2806560"/>
            <a:chOff x="450720" y="2292480"/>
            <a:chExt cx="6257520" cy="2806560"/>
          </a:xfrm>
        </p:grpSpPr>
        <p:sp>
          <p:nvSpPr>
            <p:cNvPr id="264" name=""/>
            <p:cNvSpPr/>
            <p:nvPr/>
          </p:nvSpPr>
          <p:spPr>
            <a:xfrm>
              <a:off x="479520" y="4730760"/>
              <a:ext cx="602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CH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i="1" lang="de-CH" sz="1800" spc="-1" strike="noStrike">
                  <a:solidFill>
                    <a:srgbClr val="ffffff"/>
                  </a:solidFill>
                  <a:latin typeface="Arial"/>
                </a:rPr>
                <a:t>WinTool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0720" y="2292480"/>
              <a:ext cx="6257520" cy="2771640"/>
            </a:xfrm>
            <a:prstGeom prst="rect">
              <a:avLst/>
            </a:prstGeom>
            <a:noFill/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740640" y="2292480"/>
            <a:ext cx="2063520" cy="2793600"/>
            <a:chOff x="6740640" y="2292480"/>
            <a:chExt cx="2063520" cy="2793600"/>
          </a:xfrm>
        </p:grpSpPr>
        <p:sp>
          <p:nvSpPr>
            <p:cNvPr id="267" name=""/>
            <p:cNvSpPr/>
            <p:nvPr/>
          </p:nvSpPr>
          <p:spPr>
            <a:xfrm>
              <a:off x="6740640" y="2292480"/>
              <a:ext cx="2063520" cy="27712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67280" y="471780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M-Interface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250720" y="2384280"/>
            <a:ext cx="2278440" cy="2322720"/>
            <a:chOff x="2250720" y="2384280"/>
            <a:chExt cx="2278440" cy="2322720"/>
          </a:xfrm>
        </p:grpSpPr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2630520" y="2806560"/>
              <a:ext cx="1893960" cy="132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1" name=""/>
            <p:cNvGrpSpPr/>
            <p:nvPr/>
          </p:nvGrpSpPr>
          <p:grpSpPr>
            <a:xfrm>
              <a:off x="2250720" y="4549680"/>
              <a:ext cx="509400" cy="157320"/>
              <a:chOff x="2250720" y="4549680"/>
              <a:chExt cx="509400" cy="1573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2755800" y="4549680"/>
                <a:ext cx="0" cy="1526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2250720" y="470052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2252520" y="4559400"/>
                <a:ext cx="0" cy="14760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629080" y="2384280"/>
              <a:ext cx="19000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31960" y="4138560"/>
              <a:ext cx="188604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arch Matching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319280" y="2384280"/>
            <a:ext cx="2335680" cy="2324880"/>
            <a:chOff x="4319280" y="2384280"/>
            <a:chExt cx="2335680" cy="232488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4659480" y="2819520"/>
              <a:ext cx="1989000" cy="13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659480" y="2384280"/>
              <a:ext cx="19954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L-Manage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65600" y="4129200"/>
              <a:ext cx="1981080" cy="441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inked STL-Fil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319280" y="4552560"/>
              <a:ext cx="509400" cy="156600"/>
              <a:chOff x="4319280" y="4552560"/>
              <a:chExt cx="509400" cy="156600"/>
            </a:xfrm>
          </p:grpSpPr>
          <p:sp>
            <p:nvSpPr>
              <p:cNvPr id="282" name=""/>
              <p:cNvSpPr/>
              <p:nvPr/>
            </p:nvSpPr>
            <p:spPr>
              <a:xfrm flipV="1">
                <a:off x="4824360" y="4552560"/>
                <a:ext cx="0" cy="15228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4319280" y="470340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321080" y="4561920"/>
                <a:ext cx="0" cy="1472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6470280" y="2387520"/>
            <a:ext cx="2262600" cy="2331360"/>
            <a:chOff x="6470280" y="2387520"/>
            <a:chExt cx="2262600" cy="2331360"/>
          </a:xfrm>
        </p:grpSpPr>
        <p:pic>
          <p:nvPicPr>
            <p:cNvPr id="286" name="" descr=""/>
            <p:cNvPicPr/>
            <p:nvPr/>
          </p:nvPicPr>
          <p:blipFill>
            <a:blip r:embed="rId4"/>
            <a:stretch/>
          </p:blipFill>
          <p:spPr>
            <a:xfrm>
              <a:off x="6797520" y="2816280"/>
              <a:ext cx="193536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794640" y="2387520"/>
              <a:ext cx="193176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D Model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6470280" y="4562280"/>
              <a:ext cx="509400" cy="156600"/>
              <a:chOff x="6470280" y="4562280"/>
              <a:chExt cx="509400" cy="156600"/>
            </a:xfrm>
          </p:grpSpPr>
          <p:sp>
            <p:nvSpPr>
              <p:cNvPr id="289" name=""/>
              <p:cNvSpPr/>
              <p:nvPr/>
            </p:nvSpPr>
            <p:spPr>
              <a:xfrm flipV="1">
                <a:off x="6975360" y="4562280"/>
                <a:ext cx="0" cy="15228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6470280" y="4713120"/>
                <a:ext cx="50940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6472080" y="4571640"/>
                <a:ext cx="0" cy="1472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546120" y="2381400"/>
            <a:ext cx="1930320" cy="2184120"/>
            <a:chOff x="546120" y="2381400"/>
            <a:chExt cx="1930320" cy="2184120"/>
          </a:xfrm>
        </p:grpSpPr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>
              <a:off x="546120" y="2743200"/>
              <a:ext cx="193032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46120" y="2381400"/>
              <a:ext cx="193032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9360" y="4138560"/>
              <a:ext cx="192060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 &amp; Modify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68360" y="5300640"/>
            <a:ext cx="2195640" cy="568440"/>
          </a:xfrm>
          <a:prstGeom prst="wedgeRoundRectCallout">
            <a:avLst>
              <a:gd name="adj1" fmla="val -4662"/>
              <a:gd name="adj2" fmla="val -191898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Catalog Data and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Models from Supplier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32000" y="6021360"/>
            <a:ext cx="2268720" cy="568440"/>
          </a:xfrm>
          <a:prstGeom prst="wedgeRoundRectCallout">
            <a:avLst>
              <a:gd name="adj1" fmla="val -12212"/>
              <a:gd name="adj2" fmla="val -309777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ssembly with 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Presetting Instruction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08360" y="5265720"/>
            <a:ext cx="2158920" cy="585720"/>
          </a:xfrm>
          <a:prstGeom prst="wedgeRoundRectCallout">
            <a:avLst>
              <a:gd name="adj1" fmla="val 30439"/>
              <a:gd name="adj2" fmla="val -170865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TL embedded or linked to Assembly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24360" y="6021360"/>
            <a:ext cx="2749680" cy="576360"/>
          </a:xfrm>
          <a:prstGeom prst="wedgeRoundRectCallout">
            <a:avLst>
              <a:gd name="adj1" fmla="val -9180"/>
              <a:gd name="adj2" fmla="val -322726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ata is Transferred and STL mounted on Turret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105264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sting your CAM Workfl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188136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The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WinTool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Libra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234936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Integrated workfl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16000" y="281772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Load Assembl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16000" y="328608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Documen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16000" y="375444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Interface Concep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16000" y="422100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STL Position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 advTm="3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4360" y="105264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sting your CAM Workfl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16000" y="188136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nToo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ibra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16000" y="234936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 workfl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16000" y="281772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ad Assembl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16000" y="328608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16000" y="375444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rface Concep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016000" y="422100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STL Position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 advTm="3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4360" y="105264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L Re-Positioning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31640" y="2292480"/>
            <a:ext cx="2063880" cy="2793600"/>
            <a:chOff x="431640" y="2292480"/>
            <a:chExt cx="2063880" cy="2793600"/>
          </a:xfrm>
        </p:grpSpPr>
        <p:sp>
          <p:nvSpPr>
            <p:cNvPr id="309" name=""/>
            <p:cNvSpPr/>
            <p:nvPr/>
          </p:nvSpPr>
          <p:spPr>
            <a:xfrm>
              <a:off x="431640" y="2292480"/>
              <a:ext cx="2063880" cy="27712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8280" y="4717800"/>
              <a:ext cx="196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epar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664000" y="2384280"/>
            <a:ext cx="1873080" cy="2192400"/>
            <a:chOff x="2664000" y="2384280"/>
            <a:chExt cx="1873080" cy="219240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2664000" y="2757600"/>
              <a:ext cx="187128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2664000" y="2384280"/>
              <a:ext cx="18730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unted 1H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4000" y="4149720"/>
              <a:ext cx="187308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tomatic 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3"/>
            <a:stretch/>
          </p:blipFill>
          <p:spPr>
            <a:xfrm>
              <a:off x="4140000" y="3753000"/>
              <a:ext cx="35856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664000" y="2384280"/>
              <a:ext cx="18730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unted 1H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678200" y="2384280"/>
            <a:ext cx="1873440" cy="2192400"/>
            <a:chOff x="4678200" y="2384280"/>
            <a:chExt cx="1873440" cy="2192400"/>
          </a:xfrm>
        </p:grpSpPr>
        <p:pic>
          <p:nvPicPr>
            <p:cNvPr id="318" name="" descr=""/>
            <p:cNvPicPr/>
            <p:nvPr/>
          </p:nvPicPr>
          <p:blipFill>
            <a:blip r:embed="rId4"/>
            <a:stretch/>
          </p:blipFill>
          <p:spPr>
            <a:xfrm>
              <a:off x="4678200" y="2673360"/>
              <a:ext cx="187344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4678200" y="2384280"/>
              <a:ext cx="18734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-mounted 4V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78200" y="4149720"/>
              <a:ext cx="187344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tomatic 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5"/>
            <a:stretch/>
          </p:blipFill>
          <p:spPr>
            <a:xfrm>
              <a:off x="6154560" y="3768840"/>
              <a:ext cx="34956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"/>
          <p:cNvGrpSpPr/>
          <p:nvPr/>
        </p:nvGrpSpPr>
        <p:grpSpPr>
          <a:xfrm>
            <a:off x="503280" y="2392200"/>
            <a:ext cx="1944720" cy="2184480"/>
            <a:chOff x="503280" y="2392200"/>
            <a:chExt cx="1944720" cy="2184480"/>
          </a:xfrm>
        </p:grpSpPr>
        <p:grpSp>
          <p:nvGrpSpPr>
            <p:cNvPr id="323" name=""/>
            <p:cNvGrpSpPr/>
            <p:nvPr/>
          </p:nvGrpSpPr>
          <p:grpSpPr>
            <a:xfrm>
              <a:off x="503280" y="2392200"/>
              <a:ext cx="1944720" cy="2184480"/>
              <a:chOff x="503280" y="2392200"/>
              <a:chExt cx="1944720" cy="2184480"/>
            </a:xfrm>
          </p:grpSpPr>
          <p:pic>
            <p:nvPicPr>
              <p:cNvPr id="3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3280" y="2781360"/>
                <a:ext cx="1944720" cy="13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>
                <a:off x="503280" y="2392200"/>
                <a:ext cx="1944720" cy="4413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asic View 1H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1200" y="4149720"/>
                <a:ext cx="1920960" cy="42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TL or embedded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pic>
          <p:nvPicPr>
            <p:cNvPr id="327" name="" descr=""/>
            <p:cNvPicPr/>
            <p:nvPr/>
          </p:nvPicPr>
          <p:blipFill>
            <a:blip r:embed="rId7"/>
            <a:stretch/>
          </p:blipFill>
          <p:spPr>
            <a:xfrm>
              <a:off x="2051280" y="2889360"/>
              <a:ext cx="358560" cy="37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2231640" y="2281320"/>
            <a:ext cx="6443640" cy="2806560"/>
            <a:chOff x="2231640" y="2281320"/>
            <a:chExt cx="6443640" cy="2806560"/>
          </a:xfrm>
        </p:grpSpPr>
        <p:grpSp>
          <p:nvGrpSpPr>
            <p:cNvPr id="329" name=""/>
            <p:cNvGrpSpPr/>
            <p:nvPr/>
          </p:nvGrpSpPr>
          <p:grpSpPr>
            <a:xfrm>
              <a:off x="2231640" y="4586040"/>
              <a:ext cx="4676760" cy="178920"/>
              <a:chOff x="2231640" y="4586040"/>
              <a:chExt cx="4676760" cy="178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6865920" y="4586040"/>
                <a:ext cx="0" cy="17388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2231640" y="4758120"/>
                <a:ext cx="467676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2244960" y="4596840"/>
                <a:ext cx="0" cy="16812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556000" y="2281320"/>
              <a:ext cx="6119280" cy="2806560"/>
              <a:chOff x="2556000" y="2281320"/>
              <a:chExt cx="6119280" cy="2806560"/>
            </a:xfrm>
          </p:grpSpPr>
          <p:sp>
            <p:nvSpPr>
              <p:cNvPr id="334" name=""/>
              <p:cNvSpPr/>
              <p:nvPr/>
            </p:nvSpPr>
            <p:spPr>
              <a:xfrm>
                <a:off x="2584080" y="4719600"/>
                <a:ext cx="589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800" spc="-1" strike="noStrike">
                    <a:solidFill>
                      <a:srgbClr val="ffffff"/>
                    </a:solidFill>
                    <a:latin typeface="Arial"/>
                  </a:rPr>
                  <a:t>Interface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56000" y="2281320"/>
                <a:ext cx="6119280" cy="2771640"/>
              </a:xfrm>
              <a:prstGeom prst="rect">
                <a:avLst/>
              </a:prstGeom>
              <a:noFill/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232000" y="4581360"/>
              <a:ext cx="539280" cy="114120"/>
              <a:chOff x="2232000" y="4581360"/>
              <a:chExt cx="539280" cy="114120"/>
            </a:xfrm>
          </p:grpSpPr>
          <p:sp>
            <p:nvSpPr>
              <p:cNvPr id="337" name=""/>
              <p:cNvSpPr/>
              <p:nvPr/>
            </p:nvSpPr>
            <p:spPr>
              <a:xfrm flipV="1">
                <a:off x="2766600" y="4581360"/>
                <a:ext cx="0" cy="11088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232000" y="4691160"/>
                <a:ext cx="53928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2233440" y="4588200"/>
                <a:ext cx="0" cy="10728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2231640" y="4581000"/>
              <a:ext cx="2662200" cy="142920"/>
              <a:chOff x="2231640" y="4581000"/>
              <a:chExt cx="2662200" cy="142920"/>
            </a:xfrm>
          </p:grpSpPr>
          <p:sp>
            <p:nvSpPr>
              <p:cNvPr id="341" name=""/>
              <p:cNvSpPr/>
              <p:nvPr/>
            </p:nvSpPr>
            <p:spPr>
              <a:xfrm flipV="1">
                <a:off x="4869720" y="4581000"/>
                <a:ext cx="0" cy="13860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2231640" y="4718160"/>
                <a:ext cx="26622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2239200" y="4590000"/>
                <a:ext cx="0" cy="13392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96000" y="2384280"/>
            <a:ext cx="1873080" cy="2192400"/>
            <a:chOff x="6696000" y="2384280"/>
            <a:chExt cx="1873080" cy="2192400"/>
          </a:xfrm>
        </p:grpSpPr>
        <p:pic>
          <p:nvPicPr>
            <p:cNvPr id="345" name="" descr=""/>
            <p:cNvPicPr/>
            <p:nvPr/>
          </p:nvPicPr>
          <p:blipFill>
            <a:blip r:embed="rId8"/>
            <a:stretch/>
          </p:blipFill>
          <p:spPr>
            <a:xfrm>
              <a:off x="6697440" y="2808360"/>
              <a:ext cx="18684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696000" y="2384280"/>
              <a:ext cx="18730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-mounted 2H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96000" y="4149720"/>
              <a:ext cx="187308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tomatic 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9"/>
            <a:stretch/>
          </p:blipFill>
          <p:spPr>
            <a:xfrm>
              <a:off x="8173800" y="3789360"/>
              <a:ext cx="357120" cy="32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"/>
          <p:cNvSpPr/>
          <p:nvPr/>
        </p:nvSpPr>
        <p:spPr>
          <a:xfrm>
            <a:off x="611280" y="5661000"/>
            <a:ext cx="1857240" cy="568440"/>
          </a:xfrm>
          <a:prstGeom prst="wedgeRoundRectCallout">
            <a:avLst>
              <a:gd name="adj1" fmla="val 40171"/>
              <a:gd name="adj2" fmla="val -232125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TL in default orient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92360" y="5661000"/>
            <a:ext cx="1979640" cy="568440"/>
          </a:xfrm>
          <a:prstGeom prst="wedgeRoundRectCallout">
            <a:avLst>
              <a:gd name="adj1" fmla="val 19925"/>
              <a:gd name="adj2" fmla="val -23994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TL loaded and mount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08360" y="5624640"/>
            <a:ext cx="2102040" cy="612720"/>
          </a:xfrm>
          <a:prstGeom prst="wedgeRoundRectCallout">
            <a:avLst>
              <a:gd name="adj1" fmla="val 28625"/>
              <a:gd name="adj2" fmla="val -22357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TL re-mounted from file or embedd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67640" y="5624640"/>
            <a:ext cx="2101680" cy="612720"/>
          </a:xfrm>
          <a:prstGeom prst="wedgeRoundRectCallout">
            <a:avLst>
              <a:gd name="adj1" fmla="val 20393"/>
              <a:gd name="adj2" fmla="val -217875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TL re-mounted from file or embedd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96000" y="907920"/>
            <a:ext cx="2158920" cy="14400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License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4360" y="105264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sting your CAM Workfl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16000" y="188136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nToo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ibra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16000" y="234936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 workfl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16000" y="281772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ad Assembl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16000" y="328608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16000" y="375444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rface Concep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16000" y="422100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L Position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 advTm="3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85800" y="88092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ul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568152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cy, higher productivity, better wor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80360" y="64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4f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150920" y="2276640"/>
            <a:ext cx="6791400" cy="3327120"/>
            <a:chOff x="1150920" y="2276640"/>
            <a:chExt cx="6791400" cy="3327120"/>
          </a:xfrm>
        </p:grpSpPr>
        <p:sp>
          <p:nvSpPr>
            <p:cNvPr id="365" name=""/>
            <p:cNvSpPr/>
            <p:nvPr/>
          </p:nvSpPr>
          <p:spPr>
            <a:xfrm>
              <a:off x="1150920" y="2276640"/>
              <a:ext cx="6791400" cy="33271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67058"/>
                  </a:srgbClr>
                </a:gs>
                <a:gs pos="100000">
                  <a:srgbClr val="0064f8">
                    <a:alpha val="30196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1563840" y="3311280"/>
              <a:ext cx="1681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3">
              <a:lum bright="16000"/>
            </a:blip>
            <a:stretch/>
          </p:blipFill>
          <p:spPr>
            <a:xfrm>
              <a:off x="3407760" y="2521080"/>
              <a:ext cx="152388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"/>
            <a:stretch/>
          </p:blipFill>
          <p:spPr>
            <a:xfrm>
              <a:off x="3612960" y="3736080"/>
              <a:ext cx="1461240" cy="9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5"/>
            <a:stretch/>
          </p:blipFill>
          <p:spPr>
            <a:xfrm>
              <a:off x="5398920" y="4329000"/>
              <a:ext cx="85500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45320" y="3345840"/>
              <a:ext cx="84708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7"/>
            <a:stretch/>
          </p:blipFill>
          <p:spPr>
            <a:xfrm>
              <a:off x="5183280" y="3008160"/>
              <a:ext cx="147060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8"/>
            <a:stretch/>
          </p:blipFill>
          <p:spPr>
            <a:xfrm>
              <a:off x="3296520" y="4735440"/>
              <a:ext cx="1458720" cy="74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3000">
    <p:wipe dir="d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664080" y="2290680"/>
            <a:ext cx="1814040" cy="917280"/>
            <a:chOff x="3664080" y="2290680"/>
            <a:chExt cx="1814040" cy="917280"/>
          </a:xfrm>
        </p:grpSpPr>
        <p:sp>
          <p:nvSpPr>
            <p:cNvPr id="67" name=""/>
            <p:cNvSpPr/>
            <p:nvPr/>
          </p:nvSpPr>
          <p:spPr>
            <a:xfrm>
              <a:off x="3664080" y="2290680"/>
              <a:ext cx="181404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3853440" y="2548080"/>
              <a:ext cx="148680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792000" y="3897360"/>
            <a:ext cx="2411640" cy="2432160"/>
            <a:chOff x="792000" y="3897360"/>
            <a:chExt cx="2411640" cy="2432160"/>
          </a:xfrm>
        </p:grpSpPr>
        <p:sp>
          <p:nvSpPr>
            <p:cNvPr id="70" name=""/>
            <p:cNvSpPr/>
            <p:nvPr/>
          </p:nvSpPr>
          <p:spPr>
            <a:xfrm>
              <a:off x="923760" y="5888160"/>
              <a:ext cx="21862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55640" y="4005360"/>
              <a:ext cx="609840" cy="387360"/>
            </a:xfrm>
            <a:prstGeom prst="wedgeRectCallout">
              <a:avLst>
                <a:gd name="adj1" fmla="val 335939"/>
                <a:gd name="adj2" fmla="val -274180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792000" y="3897360"/>
              <a:ext cx="2411640" cy="18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3276720" y="3913200"/>
            <a:ext cx="2844720" cy="2432160"/>
            <a:chOff x="3276720" y="3913200"/>
            <a:chExt cx="2844720" cy="2432160"/>
          </a:xfrm>
        </p:grpSpPr>
        <p:sp>
          <p:nvSpPr>
            <p:cNvPr id="74" name=""/>
            <p:cNvSpPr/>
            <p:nvPr/>
          </p:nvSpPr>
          <p:spPr>
            <a:xfrm>
              <a:off x="3584520" y="590400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92720" y="4005360"/>
              <a:ext cx="609480" cy="387360"/>
            </a:xfrm>
            <a:prstGeom prst="wedgeRectCallout">
              <a:avLst>
                <a:gd name="adj1" fmla="val -4166"/>
                <a:gd name="adj2" fmla="val -28483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3276720" y="3913200"/>
              <a:ext cx="2844720" cy="18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"/>
          <p:cNvGrpSpPr/>
          <p:nvPr/>
        </p:nvGrpSpPr>
        <p:grpSpPr>
          <a:xfrm>
            <a:off x="6192720" y="2637000"/>
            <a:ext cx="2252880" cy="3693960"/>
            <a:chOff x="6192720" y="2637000"/>
            <a:chExt cx="2252880" cy="3693960"/>
          </a:xfrm>
        </p:grpSpPr>
        <p:sp>
          <p:nvSpPr>
            <p:cNvPr id="78" name=""/>
            <p:cNvSpPr/>
            <p:nvPr/>
          </p:nvSpPr>
          <p:spPr>
            <a:xfrm>
              <a:off x="6208560" y="588960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92720" y="3897360"/>
              <a:ext cx="609840" cy="387360"/>
            </a:xfrm>
            <a:prstGeom prst="wedgeRectCallout">
              <a:avLst>
                <a:gd name="adj1" fmla="val -198958"/>
                <a:gd name="adj2" fmla="val -24958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>
              <a:off x="6192720" y="2637000"/>
              <a:ext cx="2214720" cy="31320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81" name=""/>
          <p:cNvSpPr/>
          <p:nvPr/>
        </p:nvSpPr>
        <p:spPr>
          <a:xfrm>
            <a:off x="684360" y="1052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inTool Librar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 advTm="12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4000" y="1592280"/>
            <a:ext cx="2146320" cy="1339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052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ted Data Fl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760" y="2379600"/>
            <a:ext cx="12193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upplier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atalog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47640" y="3321000"/>
            <a:ext cx="1800360" cy="1216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86" name=""/>
          <p:cNvSpPr/>
          <p:nvPr/>
        </p:nvSpPr>
        <p:spPr>
          <a:xfrm flipV="1">
            <a:off x="2728080" y="3496320"/>
            <a:ext cx="1785240" cy="14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5" y="5490"/>
                </a:moveTo>
                <a:arcTo wR="10800" hR="10800" stAng="-9033169" swAng="7359586"/>
                <a:lnTo>
                  <a:pt x="10800" y="10800"/>
                </a:lnTo>
                <a:close/>
              </a:path>
              <a:path fill="none" w="21600" h="21600">
                <a:moveTo>
                  <a:pt x="1395" y="5490"/>
                </a:moveTo>
                <a:arcTo wR="10800" hR="10800" stAng="-9033169" swAng="7359586"/>
              </a:path>
            </a:pathLst>
          </a:custGeom>
          <a:noFill/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1592280"/>
            <a:ext cx="731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c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492360" y="3321000"/>
            <a:ext cx="1836720" cy="12286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317520" y="1744560"/>
            <a:ext cx="3063960" cy="584280"/>
            <a:chOff x="317520" y="1744560"/>
            <a:chExt cx="3063960" cy="584280"/>
          </a:xfrm>
        </p:grpSpPr>
        <p:sp>
          <p:nvSpPr>
            <p:cNvPr id="90" name=""/>
            <p:cNvSpPr/>
            <p:nvPr/>
          </p:nvSpPr>
          <p:spPr>
            <a:xfrm>
              <a:off x="317520" y="1744560"/>
              <a:ext cx="3063960" cy="584280"/>
            </a:xfrm>
            <a:prstGeom prst="rect">
              <a:avLst/>
            </a:prstGeom>
            <a:solidFill>
              <a:srgbClr val="33cccc">
                <a:alpha val="48000"/>
              </a:srgbClr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5">
              <a:alphaModFix amt="48000"/>
            </a:blip>
            <a:stretch/>
          </p:blipFill>
          <p:spPr>
            <a:xfrm>
              <a:off x="1132200" y="1765800"/>
              <a:ext cx="768600" cy="54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6">
              <a:alphaModFix amt="48000"/>
            </a:blip>
            <a:stretch/>
          </p:blipFill>
          <p:spPr>
            <a:xfrm>
              <a:off x="344880" y="1769760"/>
              <a:ext cx="716760" cy="53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7">
              <a:alphaModFix amt="48000"/>
            </a:blip>
            <a:stretch/>
          </p:blipFill>
          <p:spPr>
            <a:xfrm>
              <a:off x="1943640" y="1771920"/>
              <a:ext cx="1404720" cy="53316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</p:grpSp>
      <p:sp>
        <p:nvSpPr>
          <p:cNvPr id="94" name=""/>
          <p:cNvSpPr/>
          <p:nvPr/>
        </p:nvSpPr>
        <p:spPr>
          <a:xfrm>
            <a:off x="1403280" y="2384280"/>
            <a:ext cx="571680" cy="8478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045400" y="2196360"/>
            <a:ext cx="429192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98" y="14631"/>
                </a:moveTo>
                <a:arcTo wR="10800" hR="10800" stAng="1246750" swAng="3803500"/>
                <a:lnTo>
                  <a:pt x="10800" y="10800"/>
                </a:lnTo>
                <a:close/>
              </a:path>
              <a:path fill="none" w="21600" h="21600">
                <a:moveTo>
                  <a:pt x="20898" y="14631"/>
                </a:moveTo>
                <a:arcTo wR="10800" hR="10800" stAng="1246750" swAng="3803500"/>
              </a:path>
            </a:pathLst>
          </a:custGeom>
          <a:noFill/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188400" y="2526480"/>
            <a:ext cx="1932840" cy="21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78" y="21225"/>
                </a:moveTo>
                <a:arcTo wR="10800" hR="10800" stAng="6308891" swAng="3506334"/>
                <a:lnTo>
                  <a:pt x="10800" y="10800"/>
                </a:lnTo>
                <a:close/>
              </a:path>
              <a:path fill="none" w="21600" h="21600">
                <a:moveTo>
                  <a:pt x="7978" y="21225"/>
                </a:moveTo>
                <a:arcTo wR="10800" hR="10800" stAng="6308891" swAng="3506334"/>
              </a:path>
            </a:pathLst>
          </a:custGeom>
          <a:noFill/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472000" y="3321000"/>
            <a:ext cx="1811520" cy="12207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450800" y="4570560"/>
            <a:ext cx="16434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ibrary for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70600"/>
            <a:ext cx="1854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ibrary for Assemblies and Technolog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3320" y="4570560"/>
            <a:ext cx="16430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c00"/>
                </a:solidFill>
                <a:latin typeface="Arial"/>
              </a:rPr>
              <a:t>CNC</a:t>
            </a:r>
            <a:br>
              <a:rPr sz="1800"/>
            </a:br>
            <a:r>
              <a:rPr b="1" lang="de-DE" sz="1800" spc="-1" strike="noStrike">
                <a:solidFill>
                  <a:srgbClr val="ffcc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9440" y="5985000"/>
            <a:ext cx="1511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tup Docum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236000" y="4329000"/>
            <a:ext cx="1682640" cy="2379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4248000" y="2168640"/>
            <a:ext cx="194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c00"/>
                </a:solidFill>
                <a:latin typeface="Arial"/>
              </a:rPr>
              <a:t>CAM Interfac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62920" y="2360160"/>
            <a:ext cx="3273120" cy="372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1" y="8486"/>
                </a:moveTo>
                <a:arcTo wR="10800" hR="10800" stAng="-10057789" swAng="2869508"/>
                <a:lnTo>
                  <a:pt x="10800" y="10800"/>
                </a:lnTo>
                <a:close/>
              </a:path>
              <a:path fill="none" w="21600" h="21600">
                <a:moveTo>
                  <a:pt x="251" y="8486"/>
                </a:moveTo>
                <a:arcTo wR="10800" hR="10800" stAng="-10057789" swAng="2869508"/>
              </a:path>
            </a:pathLst>
          </a:custGeom>
          <a:noFill/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82880" y="29242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c00"/>
                </a:solidFill>
                <a:latin typeface="Arial"/>
              </a:rPr>
              <a:t>CAM Interfac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 advTm="21000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105264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sting your CAM Workfl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16000" y="188136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nToo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ibra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16000" y="234936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 workfl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16000" y="281772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Load Assembl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16000" y="328608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Documen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3754440"/>
            <a:ext cx="40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Interface Concep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16000" y="4221000"/>
            <a:ext cx="40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0c0c0"/>
                </a:solidFill>
                <a:latin typeface="Arial"/>
                <a:ea typeface="Times New Roman"/>
              </a:rPr>
              <a:t>STL Position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92000" y="1736640"/>
            <a:ext cx="7569360" cy="4730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4360" y="1052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ad Assembly from datab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24360" y="1844640"/>
            <a:ext cx="2981160" cy="1906560"/>
            <a:chOff x="3024360" y="1844640"/>
            <a:chExt cx="2981160" cy="1906560"/>
          </a:xfrm>
        </p:grpSpPr>
        <p:sp>
          <p:nvSpPr>
            <p:cNvPr id="116" name=""/>
            <p:cNvSpPr/>
            <p:nvPr/>
          </p:nvSpPr>
          <p:spPr>
            <a:xfrm>
              <a:off x="5459400" y="1844640"/>
              <a:ext cx="546120" cy="355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24360" y="3141720"/>
              <a:ext cx="2759040" cy="609480"/>
            </a:xfrm>
            <a:prstGeom prst="wedgeRoundRectCallout">
              <a:avLst>
                <a:gd name="adj1" fmla="val 41657"/>
                <a:gd name="adj2" fmla="val -203384"/>
                <a:gd name="adj3" fmla="val 16667"/>
              </a:avLst>
            </a:prstGeom>
            <a:solidFill>
              <a:srgbClr val="ffdd4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mport Tools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from </a:t>
              </a:r>
              <a:r>
                <a:rPr b="1" i="1" lang="en-US" sz="1600" spc="-1" strike="noStrike">
                  <a:solidFill>
                    <a:srgbClr val="333333"/>
                  </a:solidFill>
                  <a:latin typeface="Arial"/>
                </a:rPr>
                <a:t>WinTool</a:t>
              </a: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 Database.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19640" y="32130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35280" y="5084640"/>
            <a:ext cx="2685960" cy="635040"/>
          </a:xfrm>
          <a:prstGeom prst="wedgeRoundRectCallout">
            <a:avLst>
              <a:gd name="adj1" fmla="val -9930"/>
              <a:gd name="adj2" fmla="val -174750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Import single Tool with manual selec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92000" y="173664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419640" y="3213000"/>
            <a:ext cx="2124000" cy="1162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851280" y="2457360"/>
            <a:ext cx="1362240" cy="2295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42920" y="3681360"/>
            <a:ext cx="2324160" cy="609480"/>
          </a:xfrm>
          <a:prstGeom prst="wedgeRoundRectCallout">
            <a:avLst>
              <a:gd name="adj1" fmla="val 87087"/>
              <a:gd name="adj2" fmla="val -134115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earch by Classifica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052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ad Assembly from datab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008160" y="3284640"/>
            <a:ext cx="3024360" cy="240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00720" y="3465360"/>
            <a:ext cx="2502000" cy="609840"/>
          </a:xfrm>
          <a:prstGeom prst="wedgeRoundRectCallout">
            <a:avLst>
              <a:gd name="adj1" fmla="val -103745"/>
              <a:gd name="adj2" fmla="val 69273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elect Tool i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Librar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4616280"/>
            <a:ext cx="2502000" cy="609840"/>
          </a:xfrm>
          <a:prstGeom prst="wedgeRoundRectCallout">
            <a:avLst>
              <a:gd name="adj1" fmla="val -81916"/>
              <a:gd name="adj2" fmla="val 55990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Check Geometry and Collision Po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63640" y="1844640"/>
            <a:ext cx="7416720" cy="4635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052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ad Assembly from datab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3716280"/>
            <a:ext cx="2413080" cy="609480"/>
          </a:xfrm>
          <a:prstGeom prst="wedgeRoundRectCallout">
            <a:avLst>
              <a:gd name="adj1" fmla="val -33027"/>
              <a:gd name="adj2" fmla="val -22031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Tool is available with complete data 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16360" y="3033720"/>
            <a:ext cx="2114640" cy="19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44560" y="1833480"/>
            <a:ext cx="7435800" cy="4656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844560" y="1844640"/>
            <a:ext cx="7435800" cy="4648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4360" y="1052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ad Assembly from datab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2241720"/>
            <a:ext cx="2305080" cy="466560"/>
          </a:xfrm>
          <a:prstGeom prst="wedgeRoundRectCallout">
            <a:avLst>
              <a:gd name="adj1" fmla="val -83263"/>
              <a:gd name="adj2" fmla="val -2891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Calculate path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2089440" cy="684000"/>
          </a:xfrm>
          <a:prstGeom prst="wedgeRoundRectCallout">
            <a:avLst>
              <a:gd name="adj1" fmla="val -13828"/>
              <a:gd name="adj2" fmla="val -217518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Receive best cutting condi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2:11:33Z</dcterms:created>
  <dc:creator>MH</dc:creator>
  <dc:description/>
  <dc:language>en-US</dc:language>
  <cp:lastModifiedBy>wg</cp:lastModifiedBy>
  <dcterms:modified xsi:type="dcterms:W3CDTF">2010-08-20T13:35:44Z</dcterms:modified>
  <cp:revision>388</cp:revision>
  <dc:subject/>
  <dc:title>PowerPoint-Präsentation</dc:title>
</cp:coreProperties>
</file>